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</p:sldMasterIdLst>
  <p:notesMasterIdLst>
    <p:notesMasterId r:id="rId22"/>
  </p:notes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  <p:sldId id="267" r:id="rId34"/>
    <p:sldId id="268" r:id="rId35"/>
    <p:sldId id="269" r:id="rId36"/>
    <p:sldId id="270" r:id="rId37"/>
    <p:sldId id="271" r:id="rId38"/>
    <p:sldId id="272" r:id="rId39"/>
    <p:sldId id="273" r:id="rId40"/>
    <p:sldId id="274" r:id="rId41"/>
    <p:sldId id="275" r:id="rId42"/>
    <p:sldId id="276" r:id="rId4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notesMaster" Target="notesMasters/notesMaster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slide" Target="slides/slide12.xml"/><Relationship Id="rId35" Type="http://schemas.openxmlformats.org/officeDocument/2006/relationships/slide" Target="slides/slide13.xml"/><Relationship Id="rId36" Type="http://schemas.openxmlformats.org/officeDocument/2006/relationships/slide" Target="slides/slide14.xml"/><Relationship Id="rId37" Type="http://schemas.openxmlformats.org/officeDocument/2006/relationships/slide" Target="slides/slide15.xml"/><Relationship Id="rId38" Type="http://schemas.openxmlformats.org/officeDocument/2006/relationships/slide" Target="slides/slide16.xml"/><Relationship Id="rId39" Type="http://schemas.openxmlformats.org/officeDocument/2006/relationships/slide" Target="slides/slide17.xml"/><Relationship Id="rId40" Type="http://schemas.openxmlformats.org/officeDocument/2006/relationships/slide" Target="slides/slide18.xml"/><Relationship Id="rId41" Type="http://schemas.openxmlformats.org/officeDocument/2006/relationships/slide" Target="slides/slide19.xml"/><Relationship Id="rId42" Type="http://schemas.openxmlformats.org/officeDocument/2006/relationships/slide" Target="slides/slide20.xml"/><Relationship Id="rId43" Type="http://schemas.openxmlformats.org/officeDocument/2006/relationships/slide" Target="slides/slide21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 type="dt" idx="61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  <a:defRPr b="0" lang="ja-JP" sz="1300" spc="-1" strike="noStrike">
                <a:solidFill>
                  <a:srgbClr val="000000"/>
                </a:solidFill>
                <a:latin typeface="メイリオ"/>
                <a:ea typeface="メイリオ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fld id="{44FAF176-4A44-49B5-A2CA-0DDD8A9D8039}" type="datetime">
              <a:rPr b="0" lang="ja-JP" sz="1300" spc="-1" strike="noStrike">
                <a:solidFill>
                  <a:srgbClr val="000000"/>
                </a:solidFill>
                <a:latin typeface="メイリオ"/>
                <a:ea typeface="メイリオ"/>
              </a:rPr>
              <a:t>26/07/31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 type="sldImg"/>
          </p:nvPr>
        </p:nvSpPr>
        <p:spPr>
          <a:xfrm>
            <a:off x="915840" y="742680"/>
            <a:ext cx="4965840" cy="372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Gothic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PlaceHolder 5"/>
          <p:cNvSpPr>
            <a:spLocks noGrp="1"/>
          </p:cNvSpPr>
          <p:nvPr>
            <p:ph type="ftr" idx="62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PlaceHolder 6"/>
          <p:cNvSpPr>
            <a:spLocks noGrp="1"/>
          </p:cNvSpPr>
          <p:nvPr>
            <p:ph type="sldNum" idx="63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  <a:defRPr b="0" lang="ja-JP" sz="1300" spc="-1" strike="noStrike">
                <a:solidFill>
                  <a:srgbClr val="000000"/>
                </a:solidFill>
                <a:latin typeface="メイリオ"/>
                <a:ea typeface="メイリオ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fld id="{EAECEE1B-739F-4716-BE52-63A23EE722F8}" type="slidenum">
              <a:rPr b="0" lang="ja-JP" sz="1300" spc="-1" strike="noStrike">
                <a:solidFill>
                  <a:srgbClr val="000000"/>
                </a:solidFill>
                <a:latin typeface="メイリオ"/>
                <a:ea typeface="メイリオ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915840" y="74304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8" name="スライド番号プレースホルダー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4638D-1196-46F9-A6BF-2DD5BC822100}" type="slidenum">
              <a:rPr b="0" lang="ja-JP" sz="13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ldImg"/>
          </p:nvPr>
        </p:nvSpPr>
        <p:spPr>
          <a:xfrm>
            <a:off x="915840" y="74304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99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5" name="スライド番号プレースホルダー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F6E14-3F1B-4D79-A0CC-B5A3BEF0C1B9}" type="slidenum">
              <a:rPr b="0" lang="ja-JP" sz="13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sldImg"/>
          </p:nvPr>
        </p:nvSpPr>
        <p:spPr>
          <a:xfrm>
            <a:off x="915840" y="74304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99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8" name="スライド番号プレースホルダー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83FF4-B374-47F9-8D96-ECC8AD144F1D}" type="slidenum">
              <a:rPr b="0" lang="ja-JP" sz="13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915840" y="74304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1" name="スライド番号プレースホルダー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33476-F84B-435C-86A4-1D19EC4937CB}" type="slidenum">
              <a:rPr b="0" lang="ja-JP" sz="13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915840" y="74304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4" name="スライド番号プレースホルダー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A44E2-00A1-4721-A286-82285B4822B7}" type="slidenum">
              <a:rPr b="0" lang="ja-JP" sz="13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sldImg"/>
          </p:nvPr>
        </p:nvSpPr>
        <p:spPr>
          <a:xfrm>
            <a:off x="915840" y="74304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00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7" name="スライド番号プレースホルダー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BF31B-AE2D-41AF-8927-7E108229AC22}" type="slidenum">
              <a:rPr b="0" lang="ja-JP" sz="13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sldImg"/>
          </p:nvPr>
        </p:nvSpPr>
        <p:spPr>
          <a:xfrm>
            <a:off x="915840" y="74304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00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0" name="スライド番号プレースホルダー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C88EB-8B51-4F0A-B248-35A6CFFC52D7}" type="slidenum">
              <a:rPr b="0" lang="ja-JP" sz="13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sldImg"/>
          </p:nvPr>
        </p:nvSpPr>
        <p:spPr>
          <a:xfrm>
            <a:off x="915840" y="74304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01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3" name="スライド番号プレースホルダー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8DB1B-034D-44D0-BD83-CE0997709E4E}" type="slidenum">
              <a:rPr b="0" lang="ja-JP" sz="13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sldImg"/>
          </p:nvPr>
        </p:nvSpPr>
        <p:spPr>
          <a:xfrm>
            <a:off x="915840" y="74304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01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6" name="スライド番号プレースホルダー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E724B-29E9-49B4-8AD0-AD98FDCBE00F}" type="slidenum">
              <a:rPr b="0" lang="ja-JP" sz="13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sldImg"/>
          </p:nvPr>
        </p:nvSpPr>
        <p:spPr>
          <a:xfrm>
            <a:off x="915840" y="74304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01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9" name="スライド番号プレースホルダー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9AC4C-B5AE-4B7D-AFDD-27F2C2F29636}" type="slidenum">
              <a:rPr b="0" lang="ja-JP" sz="13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915840" y="74304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2" name="スライド番号プレースホルダー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DA646-8848-40BF-9B1C-B9BBB418777E}" type="slidenum">
              <a:rPr b="0" lang="ja-JP" sz="13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sldImg"/>
          </p:nvPr>
        </p:nvSpPr>
        <p:spPr>
          <a:xfrm>
            <a:off x="915840" y="74304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97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スライド番号プレースホルダー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5B916-E8E3-491C-B6A3-A8F4999C1703}" type="slidenum">
              <a:rPr b="0" lang="ja-JP" sz="13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915840" y="74304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5" name="スライド番号プレースホルダー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fld id="{7CA561A4-6A9F-4B3E-93E7-0C7DA9352FA5}" type="slidenum">
              <a:rPr b="0" lang="ja-JP" sz="1300" spc="-1" strike="noStrike">
                <a:solidFill>
                  <a:srgbClr val="000000"/>
                </a:solidFill>
                <a:latin typeface="メイリオ"/>
                <a:ea typeface="メイリオ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915840" y="74304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8" name="スライド番号プレースホルダー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fld id="{9F477A5B-ED20-4A75-AB73-C111300791A1}" type="slidenum">
              <a:rPr b="0" lang="ja-JP" sz="1300" spc="-1" strike="noStrike">
                <a:solidFill>
                  <a:srgbClr val="000000"/>
                </a:solidFill>
                <a:latin typeface="メイリオ"/>
                <a:ea typeface="メイリオ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915840" y="74304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4" name="スライド番号プレースホルダー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4CF66-AB8D-4C88-AACE-CCBD02416BD4}" type="slidenum">
              <a:rPr b="0" lang="ja-JP" sz="13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sldImg"/>
          </p:nvPr>
        </p:nvSpPr>
        <p:spPr>
          <a:xfrm>
            <a:off x="915840" y="74304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97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7" name="スライド番号プレースホルダー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1A99D-366B-434D-A1FC-7F1C0603FE03}" type="slidenum">
              <a:rPr b="0" lang="ja-JP" sz="13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sldImg"/>
          </p:nvPr>
        </p:nvSpPr>
        <p:spPr>
          <a:xfrm>
            <a:off x="915840" y="74304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97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0" name="スライド番号プレースホルダー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BF2A2-4389-41BA-A68B-1DE2FC5A0DC6}" type="slidenum">
              <a:rPr b="0" lang="ja-JP" sz="13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sldImg"/>
          </p:nvPr>
        </p:nvSpPr>
        <p:spPr>
          <a:xfrm>
            <a:off x="915840" y="74304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3" name="スライド番号プレースホルダー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29DBD-8FE0-4348-BDAC-74D6BD37E88D}" type="slidenum">
              <a:rPr b="0" lang="ja-JP" sz="13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sldImg"/>
          </p:nvPr>
        </p:nvSpPr>
        <p:spPr>
          <a:xfrm>
            <a:off x="915840" y="74304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98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スライド番号プレースホルダー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07616-F11D-4FDB-9489-5E3ECEE66A77}" type="slidenum">
              <a:rPr b="0" lang="ja-JP" sz="13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sldImg"/>
          </p:nvPr>
        </p:nvSpPr>
        <p:spPr>
          <a:xfrm>
            <a:off x="915840" y="74304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98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9" name="スライド番号プレースホルダー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E74D8-B7AE-436E-8AE7-E0769B56A881}" type="slidenum">
              <a:rPr b="0" lang="ja-JP" sz="13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sldImg"/>
          </p:nvPr>
        </p:nvSpPr>
        <p:spPr>
          <a:xfrm>
            <a:off x="915840" y="74304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99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2" name="スライド番号プレースホルダー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1BC05-09A1-457D-9AFE-7AAAC088F5A4}" type="slidenum">
              <a:rPr b="0" lang="ja-JP" sz="13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79D75-86DE-4004-97AC-AC22EC680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6DA69-6F33-4AD2-9A11-7689D7D3A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3F1CC7-4A52-4676-B52B-5247D6025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3E13A9-06B0-41BA-9754-F3E10D6AE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2171880" y="763560"/>
            <a:ext cx="637848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7D5CC6-A059-4431-9048-BAADB0F06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85F905-F4BA-4339-B586-59EF8708C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0DA97B-AFDE-4773-B0A4-6E0D6CCC0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D259C7-D77A-4A63-8CB5-4354109CF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315D29-931C-4B75-A2AA-1B0CAADD9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03FAA3-5123-4A9E-BE60-ED7175A8B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28392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97420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59364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28392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597420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04C23E-B29D-4C52-8716-973D02F29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936A81-E7FD-4878-BF5A-E5A8A8FBE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157A1-8D49-485A-AFB5-E226E17D4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693E41-B822-412B-9704-D49E9783B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11A389-8AFC-4933-85A8-A7F14F20E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0E8722-35F3-4BA4-9656-B863BB68D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3AE294-7064-479F-A6E0-6FCCD7FEA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2171880" y="763560"/>
            <a:ext cx="637848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9FBBE6-CE3C-4B46-8C84-4C63248C7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B3634F-762A-4A2E-A992-A5B28CB30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B544F3-3D5A-4A69-A230-05DAD4508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C33916-99E4-41D0-8330-218912454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C34762-D7F8-40D4-A73C-5C2BB4D0D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F6C586-3773-4D82-8E49-0D1350F6B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8392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7420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9364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8392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7420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FC25A-7BFF-4760-ACC8-7E0334FDE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28392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597420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59364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28392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597420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4AF400-689F-4A5B-8C7F-45390BE05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5ED69B-0047-4A88-90B8-7DFF3E744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subTitle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FA216E-DE3F-43CB-9BEB-0F5671CE1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1B3D76-EBBE-443B-BFA7-F07D93A0C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3D6FD9-669F-4B8F-9799-12962CE32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30F41A-CF99-4380-BDE6-FA78F8860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ubTitle"/>
          </p:nvPr>
        </p:nvSpPr>
        <p:spPr>
          <a:xfrm>
            <a:off x="2171880" y="763560"/>
            <a:ext cx="637848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57073D-E0CF-4A5C-BB17-4FC64C3D9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BF9DA5-6C87-4C73-A699-AD25EBB17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42E2CE-502E-42A9-AB34-E6A99DA80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B87B7C-4A3C-44FB-AC02-E2DE1EE97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12FE3-0398-447D-B183-9F36F00E0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0CEBD7-6ED7-4E7D-9566-B8DFB69B5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1F20D9-6651-403B-8EAE-4B438E197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328392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597420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59364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8" name="PlaceHolder 6"/>
          <p:cNvSpPr>
            <a:spLocks noGrp="1"/>
          </p:cNvSpPr>
          <p:nvPr>
            <p:ph/>
          </p:nvPr>
        </p:nvSpPr>
        <p:spPr>
          <a:xfrm>
            <a:off x="328392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9" name="PlaceHolder 7"/>
          <p:cNvSpPr>
            <a:spLocks noGrp="1"/>
          </p:cNvSpPr>
          <p:nvPr>
            <p:ph/>
          </p:nvPr>
        </p:nvSpPr>
        <p:spPr>
          <a:xfrm>
            <a:off x="597420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6EDE32-8122-43C8-89E4-8A2788956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B8A80E-8BCA-45DE-A4EE-A4E242F97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subTitle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4B2E4F-9F2E-4B1B-86A3-B4B69F3F8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BB9834-FF29-4DD6-8143-8C5D7FA35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074EEA-CEF3-4AF5-90B4-ECF141851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0EB980-979B-42B3-B76A-06C0ED411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ubTitle"/>
          </p:nvPr>
        </p:nvSpPr>
        <p:spPr>
          <a:xfrm>
            <a:off x="2171880" y="763560"/>
            <a:ext cx="637848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BF1A85-DC8C-41D9-B696-63435CDFD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661C01-0CBC-43AB-8E8B-1326A1090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33DC1-8790-4A25-A470-B70E91074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366C6A-9987-4613-94C5-D82BD29EF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2B6DC3-F292-45E1-830A-E2C942460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651B26-5704-466F-A61E-5FED3855B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E74581-3508-4F3C-BE6E-3D43DE07F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328392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597420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59364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9" name="PlaceHolder 6"/>
          <p:cNvSpPr>
            <a:spLocks noGrp="1"/>
          </p:cNvSpPr>
          <p:nvPr>
            <p:ph/>
          </p:nvPr>
        </p:nvSpPr>
        <p:spPr>
          <a:xfrm>
            <a:off x="328392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0" name="PlaceHolder 7"/>
          <p:cNvSpPr>
            <a:spLocks noGrp="1"/>
          </p:cNvSpPr>
          <p:nvPr>
            <p:ph/>
          </p:nvPr>
        </p:nvSpPr>
        <p:spPr>
          <a:xfrm>
            <a:off x="597420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3032C9-C3D5-4E95-99E2-7C0D22555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69403B7-81B5-428E-B97E-9DC156578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2228099-4959-4851-A03D-7BFE8D4B7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F435D0B-65A3-48E9-A7D1-49B6F2B44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522EFD3-2320-4491-B929-F6D68D03F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BC0090E-AB4D-4DBA-BD06-F9815F47B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B7CA0-642D-4BCD-AA5D-E9E4F9874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2171880" y="763560"/>
            <a:ext cx="637848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1827146-6660-4788-B249-6B832383F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0599794-7C9C-473E-878C-E0FD2A818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4A29E53-D6F8-4A97-A051-F4DEB7357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03DB903-18AE-424A-A13E-DDEFD9ABF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7AD7D51-4A9A-4B5C-A78C-B8E294EC6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9316318-E70D-433F-A023-94D7D2F15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28392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97420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59364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28392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597420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47BFE11-7D4C-423A-9AC5-6FA12351F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1775B3F-39D7-4632-BD62-E66A7776A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58D1C3A-1B0F-4F0C-9E3A-D34D71B63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6A29F06-2697-462B-8335-FCE53628A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4754E-9EA8-45CC-9D9F-32D6FB131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140A960-E467-4868-B420-8599B56AB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D32D3CD-B19C-42E6-8C74-7D396A909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2171880" y="763560"/>
            <a:ext cx="637848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02E28B5-E2D5-4B70-9D92-AD27CEBF1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D098DF0-D871-45AF-8B83-7DFC406F3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06CAD0D-80EB-44FD-AF67-DD5C442E9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2818E67-70AC-4E12-8303-86C9AF370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8B46BFF-4DF5-4F49-8CE1-D05629255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81152D3-2B1A-44C7-B4C9-7E21566BE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8392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597420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59364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8392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597420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16A8018-68B4-43ED-BB53-2BFE7BC05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97D325C-16FB-4093-B183-F26884F30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1C133-E003-4A6A-AF8A-ED1604667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 type="subTitle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FF7D14A-8797-441E-A5B1-6A4E957C2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4E8F10F-532A-429A-BEF6-D27464738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F06CF2F-B566-4914-83B1-39FE482E2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77726F5-9850-489A-A4C0-AF8E1F037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subTitle"/>
          </p:nvPr>
        </p:nvSpPr>
        <p:spPr>
          <a:xfrm>
            <a:off x="2171880" y="763560"/>
            <a:ext cx="637848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3E4E0C6-03D9-4A9B-BE6A-D67C35B53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1405E32-0E05-4124-85D9-4A5C4F4F2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7AF5AB5-BC46-49A9-882B-46FCD9C29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86DA813-D5D6-46C7-B9E6-E465E4C88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2844120-7E78-4E4F-B9AA-E466844C9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6" name="PlaceHolder 5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3E1F6F5-755D-405B-B7AE-53BDE4E88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171880" y="763560"/>
            <a:ext cx="637848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2B003-3CE5-472B-95CE-214FDCBC1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328392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597420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/>
          </p:nvPr>
        </p:nvSpPr>
        <p:spPr>
          <a:xfrm>
            <a:off x="59364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2" name="PlaceHolder 6"/>
          <p:cNvSpPr>
            <a:spLocks noGrp="1"/>
          </p:cNvSpPr>
          <p:nvPr>
            <p:ph/>
          </p:nvPr>
        </p:nvSpPr>
        <p:spPr>
          <a:xfrm>
            <a:off x="328392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3" name="PlaceHolder 7"/>
          <p:cNvSpPr>
            <a:spLocks noGrp="1"/>
          </p:cNvSpPr>
          <p:nvPr>
            <p:ph/>
          </p:nvPr>
        </p:nvSpPr>
        <p:spPr>
          <a:xfrm>
            <a:off x="597420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F94343C-7FF4-470F-B2E8-3EE50C27C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828997E-CE7C-4BFA-A080-C694C05DE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 type="subTitle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4058228-EDD8-4EBC-B468-33CB54057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60A5D2A-DCEC-4327-8B5C-A2ACEF09B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45181D5-6D1D-4B9C-A7DD-4A642D10C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5257D87-626D-4960-9FF3-F2013C459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subTitle"/>
          </p:nvPr>
        </p:nvSpPr>
        <p:spPr>
          <a:xfrm>
            <a:off x="2171880" y="763560"/>
            <a:ext cx="637848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CE810AB-C0B5-4F41-ADDF-B4C4DCBB6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8B90DEB-FF0B-4C64-AD06-59750CA4B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630B0BF-7178-45EE-BFDC-BBF479032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82BC3DA-87A1-4CD8-9C4E-69ED319CB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1F6F9-2587-4E1F-871B-BF9CA46D2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25C665E-1864-484D-B1EF-1A5B411F8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7" name="PlaceHolder 5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679DBD9-83B4-4A9F-A8A4-EE90232F0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328392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597420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/>
          </p:nvPr>
        </p:nvSpPr>
        <p:spPr>
          <a:xfrm>
            <a:off x="59364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63" name="PlaceHolder 6"/>
          <p:cNvSpPr>
            <a:spLocks noGrp="1"/>
          </p:cNvSpPr>
          <p:nvPr>
            <p:ph/>
          </p:nvPr>
        </p:nvSpPr>
        <p:spPr>
          <a:xfrm>
            <a:off x="328392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64" name="PlaceHolder 7"/>
          <p:cNvSpPr>
            <a:spLocks noGrp="1"/>
          </p:cNvSpPr>
          <p:nvPr>
            <p:ph/>
          </p:nvPr>
        </p:nvSpPr>
        <p:spPr>
          <a:xfrm>
            <a:off x="597420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C8CD054-B279-40CE-83F7-7F3B7E054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10963CF-B210-4628-9A9D-C3703F5C3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 type="subTitle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4D7CB68-312A-4B3F-A268-105E3B7EA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D3CF560-3498-4A12-88A1-D033686CE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0AE6471-FF6D-4A18-A733-7EB00967F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7E7B19B-FF11-4D9C-B48E-4B89AFFED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subTitle"/>
          </p:nvPr>
        </p:nvSpPr>
        <p:spPr>
          <a:xfrm>
            <a:off x="2171880" y="763560"/>
            <a:ext cx="637848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027F4C7-2B15-4393-9378-1195309CD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DBC2996-CBAA-40E1-834F-E87E10576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F71C2-E44F-4611-AC06-8B6E3B572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504DD-FD33-48CC-BC12-6DECE4D24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9D90EEF-DC84-45AB-BFD8-0107DEF0E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75808AD-E6BA-4192-8536-B1032CFD3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FE86A89-E9C5-4682-A4BA-787E2B478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363A415-B895-45DF-9E95-F23DFD587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328392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597420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03" name="PlaceHolder 5"/>
          <p:cNvSpPr>
            <a:spLocks noGrp="1"/>
          </p:cNvSpPr>
          <p:nvPr>
            <p:ph/>
          </p:nvPr>
        </p:nvSpPr>
        <p:spPr>
          <a:xfrm>
            <a:off x="59364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04" name="PlaceHolder 6"/>
          <p:cNvSpPr>
            <a:spLocks noGrp="1"/>
          </p:cNvSpPr>
          <p:nvPr>
            <p:ph/>
          </p:nvPr>
        </p:nvSpPr>
        <p:spPr>
          <a:xfrm>
            <a:off x="328392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05" name="PlaceHolder 7"/>
          <p:cNvSpPr>
            <a:spLocks noGrp="1"/>
          </p:cNvSpPr>
          <p:nvPr>
            <p:ph/>
          </p:nvPr>
        </p:nvSpPr>
        <p:spPr>
          <a:xfrm>
            <a:off x="597420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74B4045-C711-478B-A638-7686B110B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E7BA4E3-8255-40A7-8880-FDFF0C5AF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 type="subTitle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FC487B1-6BF8-4667-8CE2-E2A1A820D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78B483B-2223-4455-A2A5-D79C3564E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198BF18-9D03-481A-9D76-3A8C11321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3AF2C3F-4095-48BE-9B02-9E1D03C6A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80706-9441-4064-AA56-A991BA3DE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subTitle"/>
          </p:nvPr>
        </p:nvSpPr>
        <p:spPr>
          <a:xfrm>
            <a:off x="2171880" y="763560"/>
            <a:ext cx="637848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2DECCF9-6D0C-413C-ABFD-E26FF6D13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59B3FA2-4299-4AB6-9C58-F4C87609D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CF3099C-91DE-4D19-9D7B-3260AF086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AB66B4E-42B4-4E18-B765-19CD26078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4F6CBA3-3E95-4AE7-A54D-F8822C046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9" name="PlaceHolder 5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98520C0-3EF5-4E52-8715-2A3E79550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328392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597420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/>
          </p:nvPr>
        </p:nvSpPr>
        <p:spPr>
          <a:xfrm>
            <a:off x="59364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45" name="PlaceHolder 6"/>
          <p:cNvSpPr>
            <a:spLocks noGrp="1"/>
          </p:cNvSpPr>
          <p:nvPr>
            <p:ph/>
          </p:nvPr>
        </p:nvSpPr>
        <p:spPr>
          <a:xfrm>
            <a:off x="328392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46" name="PlaceHolder 7"/>
          <p:cNvSpPr>
            <a:spLocks noGrp="1"/>
          </p:cNvSpPr>
          <p:nvPr>
            <p:ph/>
          </p:nvPr>
        </p:nvSpPr>
        <p:spPr>
          <a:xfrm>
            <a:off x="597420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97E1C4F-4A8C-4B7F-9288-8C30A8722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943F1AB-9FC5-4C86-980C-3B283942B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 type="subTitle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DBD2101-DC54-403E-885D-D9A242290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F7DCBEB-85F5-43EE-A221-596436EB4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01E93-6634-47EC-84CD-7D33FD41B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EC8DAC4-2F1D-4EE5-927B-33ABEFF58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120A593-BBE4-4A82-8DF7-98D7F8F5A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subTitle"/>
          </p:nvPr>
        </p:nvSpPr>
        <p:spPr>
          <a:xfrm>
            <a:off x="2171880" y="763560"/>
            <a:ext cx="637848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A70928E-D8AE-4631-B454-95715F0ED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FE50DE1-7C40-4A05-BE63-3C199E8E9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43E082A-C6E8-4539-973C-A6E28AC79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66DCBE0-F6B8-4526-9F6A-3C8D230C4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E30A877-094E-4202-88A5-5DE0E4A1E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79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0" name="PlaceHolder 5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6328A62-E01F-4C36-A7F4-A48EF9497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328392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/>
          </p:nvPr>
        </p:nvSpPr>
        <p:spPr>
          <a:xfrm>
            <a:off x="597420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5" name="PlaceHolder 5"/>
          <p:cNvSpPr>
            <a:spLocks noGrp="1"/>
          </p:cNvSpPr>
          <p:nvPr>
            <p:ph/>
          </p:nvPr>
        </p:nvSpPr>
        <p:spPr>
          <a:xfrm>
            <a:off x="59364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6" name="PlaceHolder 6"/>
          <p:cNvSpPr>
            <a:spLocks noGrp="1"/>
          </p:cNvSpPr>
          <p:nvPr>
            <p:ph/>
          </p:nvPr>
        </p:nvSpPr>
        <p:spPr>
          <a:xfrm>
            <a:off x="328392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7" name="PlaceHolder 7"/>
          <p:cNvSpPr>
            <a:spLocks noGrp="1"/>
          </p:cNvSpPr>
          <p:nvPr>
            <p:ph/>
          </p:nvPr>
        </p:nvSpPr>
        <p:spPr>
          <a:xfrm>
            <a:off x="597420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B8E3D6E-C9EC-4113-B44B-16A83E3D7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E6773EB-AA32-45BF-A5A5-1BEEDC2A8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FB665-93C8-4E3A-B0C9-A500530E3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 type="subTitle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6FCB665-1F39-4D3A-9442-33BFF3035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6A88AD6-B9B0-42CC-A13E-224CF9749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710B23C-0794-4A24-B335-4A615B402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9488E91-5F50-4AD7-A06E-F91BBE0D4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subTitle"/>
          </p:nvPr>
        </p:nvSpPr>
        <p:spPr>
          <a:xfrm>
            <a:off x="2171880" y="763560"/>
            <a:ext cx="637848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B22D792-EECC-4F09-AFCF-D7643F54C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2062880-5267-4E9E-9E03-2ECC2B179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CAB8326-89B6-4CF7-80DA-B413A98CD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2819EF5-A2E0-45C8-B339-4A6A358E8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720ED76-F810-4B74-8805-81621B6AB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21" name="PlaceHolder 5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0636D50-B004-45AD-B6EB-96F9FDC38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8392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420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9364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8392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420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C26F3-2324-4243-B918-6A7C72A22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328392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597420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/>
          </p:nvPr>
        </p:nvSpPr>
        <p:spPr>
          <a:xfrm>
            <a:off x="59364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27" name="PlaceHolder 6"/>
          <p:cNvSpPr>
            <a:spLocks noGrp="1"/>
          </p:cNvSpPr>
          <p:nvPr>
            <p:ph/>
          </p:nvPr>
        </p:nvSpPr>
        <p:spPr>
          <a:xfrm>
            <a:off x="328392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28" name="PlaceHolder 7"/>
          <p:cNvSpPr>
            <a:spLocks noGrp="1"/>
          </p:cNvSpPr>
          <p:nvPr>
            <p:ph/>
          </p:nvPr>
        </p:nvSpPr>
        <p:spPr>
          <a:xfrm>
            <a:off x="597420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FC4EAA0-E46E-47AD-B75E-CA068366E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3DFBFB-9932-44ED-8713-0F46BD374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DFC58F-6E57-4969-B45A-39638A14D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A5D979-4890-4C2D-835F-A068D3CA8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6EEFCF-B403-48BF-9810-3B0CD8969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463A61-C8CD-4854-B017-49D306995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C776B-D08E-4E9D-AD0C-C0B469D7F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2171880" y="763560"/>
            <a:ext cx="637848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0E5E9A-91CC-49B2-978E-8065E56CD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FD78BE-1FB8-4C5D-9929-F4FA82AD5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7E9977-8B8E-4AD8-94BB-3E0AEE200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5C85E4-B13E-44BB-B96F-47190F335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990843-7435-48F0-9130-E737B9C80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554E47-6F4D-4E55-845F-72B5D10BF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8392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97420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59364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8392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597420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C0060D-F895-4576-8624-B90E9EBDB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EDEDF3-0404-45CF-B00D-7063DE6DD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5E4DA5-BCC5-4D41-880F-9ED680E89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7E3C6F-601C-4408-8D67-9B09BBA6A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A1F52-E096-4CCE-8F4D-7F77706D3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92B102-1D2F-4BFB-AE82-86072AE56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AC9816-DEDB-454A-B758-44DD17649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2171880" y="763560"/>
            <a:ext cx="637848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AB6712-91B3-4FF3-9F37-FE2AABF55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52163B-C89E-4AD7-9A07-352FB6EB2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E69080-6406-4439-B74C-80F3B0A7E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C11E23-A0C8-4115-92E5-A81D10CDE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56AA6F-0476-45D0-B343-2E64EF990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65345C-EB64-42AD-A1D8-D94995901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28392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597420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59364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28392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597420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E0B7FE-A0B3-4FEB-9A56-C4CF2C797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A2BCE7-1396-477F-ACF2-48AB818E1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63F2A-1286-4237-9A3F-7BCC3BA78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0844C1-BD73-41B8-B96A-5E623180D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F24717-5062-410B-9643-DE73D4E8E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D4BCF5-AAFA-4728-AE73-A488ED7BD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4B8C3B-B8CF-4918-A763-1EC5038AF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2171880" y="763560"/>
            <a:ext cx="637848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B36F85-B9A6-41E3-8916-46A95027A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8DF375-B34A-45AE-92D2-C48E7F1F1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8DBB2F-651F-4F85-95C1-14052EB01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4B4AE9-C0B2-42D0-BF1B-318028367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9FA101-E1E8-4166-BE0F-E5CD9484E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D3992C-EF35-4076-8238-C36DEC429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171880" y="763560"/>
            <a:ext cx="637848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49CCB-DC2A-4459-8792-0F8D9B7C8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8392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97420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59364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8392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97420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DB2B07-F6CF-44EE-8003-7BB1C034C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13B6DB-41EF-4BCE-92AD-E62C34FD8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0F0226-FAF8-4C87-9ED1-0D211B817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2488A2-EC35-4C26-BCAD-609DCD0D1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2B7264-2AF5-4901-AFDD-D0884F195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5CC239-3E9F-4618-8BA7-D4FDFF663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2171880" y="763560"/>
            <a:ext cx="637848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E43868-6756-449C-89A7-B1F1D8053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3D978A-479C-4406-92ED-920E128B9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B63892-B371-418F-B1E3-9D84E4CD0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069901-6B4B-46DD-AB85-2591D8DD9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9D2DC-9DA8-471F-9831-49100DC39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399269-324E-4BC9-B2F1-9D937BCD6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6DCDE3-C3EE-4C60-A8F9-6CE855205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8392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97420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59364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8392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97420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EFDB31-1395-4CF5-A86F-54BF45F5B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FBC9FB-5EB8-4428-9FBD-4E9B30B4B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239F7A-8865-4A37-91A2-78E1077C0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A151F3-C0D3-4625-9ED9-155D5F55C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8F58F0-C432-4365-B918-4E24C58D0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9DC7B3-605D-404F-AAB7-5EB7A56B9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2171880" y="763560"/>
            <a:ext cx="637848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D31F81-9312-4F5F-B4C7-990717819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54CB1F-6A43-4D94-A6DE-E4B700B23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D84BE-7059-4788-82D3-656ED8D23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A18EAD-C1E3-4D6D-8358-76D833FE7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710A29-B71F-4CD5-BB6D-77CBFF13C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AF389A-7F8B-4DDD-8FD7-3526CD659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8D8CD6-3747-447B-AA24-8CCB34EF0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28392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97420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59364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/>
          </p:nvPr>
        </p:nvSpPr>
        <p:spPr>
          <a:xfrm>
            <a:off x="328392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5" name="PlaceHolder 7"/>
          <p:cNvSpPr>
            <a:spLocks noGrp="1"/>
          </p:cNvSpPr>
          <p:nvPr>
            <p:ph/>
          </p:nvPr>
        </p:nvSpPr>
        <p:spPr>
          <a:xfrm>
            <a:off x="597420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2B5C73-763C-4575-918B-F0E9C74C1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38F02D-B9D9-4214-BAF7-105619EE7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F3B2AE-0ACF-42AA-8613-2A97E9A7E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EBA333-7B0E-4C22-B5C0-463E847B4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D9CA57-13BD-4781-AB7D-F854F4C7D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0F6214-EA95-43A7-8BF9-FC33E3A2E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7D774-259F-403D-94AF-9B5D40DD4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2171880" y="763560"/>
            <a:ext cx="637848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8C377D-048F-4CD4-80B1-3733DCE58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FF0FEA-5C97-4D07-94B6-657092CE3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DE79CF-1BE0-4DAA-96EB-80FF0F1ED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26668C-B149-4F15-B144-F87C4EA2A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A2BDA3-E085-412E-89A3-E65F95B79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66BE6A-F530-4948-AAAB-5776DABDC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328392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597420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59364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328392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597420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B2CADB-A4BC-44E7-8CC8-FC1BD0C75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725F91-BADF-48FD-9406-85F910A55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7C626B-6491-4464-ACEC-86BAFFA5C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B620AD-89DE-46FD-9F58-E38295A57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C2-HD-TOP.png"/>
          <p:cNvPicPr/>
          <p:nvPr/>
        </p:nvPicPr>
        <p:blipFill>
          <a:blip r:embed="rId2"/>
          <a:stretch/>
        </p:blipFill>
        <p:spPr>
          <a:xfrm>
            <a:off x="0" y="0"/>
            <a:ext cx="9144000" cy="1081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898989"/>
                </a:solidFill>
                <a:latin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92F91-E607-4F4F-A8B8-31EB9981EDC5}" type="datetime">
              <a:rPr b="0" lang="ja-JP" sz="1000" spc="-1" strike="noStrike">
                <a:solidFill>
                  <a:srgbClr val="898989"/>
                </a:solidFill>
                <a:latin typeface="ＭＳ Ｐゴシック"/>
              </a:rPr>
              <a:t>26/07/31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59328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71800" y="380520"/>
            <a:ext cx="1978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898989"/>
                </a:solidFill>
                <a:latin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20AB8-1657-4F79-ACF0-C1D309C69472}" type="slidenum">
              <a:rPr b="0" lang="ja-JP" sz="1000" spc="-1" strike="noStrike">
                <a:solidFill>
                  <a:srgbClr val="898989"/>
                </a:solidFill>
                <a:latin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 type="dt" idx="28"/>
          </p:nvPr>
        </p:nvSpPr>
        <p:spPr>
          <a:xfrm>
            <a:off x="5562360" y="380520"/>
            <a:ext cx="21826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898989"/>
                </a:solidFill>
                <a:latin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CB8BC-F476-413C-8E80-68804811FE3C}" type="datetime">
              <a:rPr b="0" lang="ja-JP" sz="1000" spc="-1" strike="noStrike">
                <a:solidFill>
                  <a:srgbClr val="898989"/>
                </a:solidFill>
                <a:latin typeface="ＭＳ Ｐゴシック"/>
              </a:rPr>
              <a:t>26/07/31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 type="ftr" idx="29"/>
          </p:nvPr>
        </p:nvSpPr>
        <p:spPr>
          <a:xfrm>
            <a:off x="593280" y="379440"/>
            <a:ext cx="4830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 type="sldNum" idx="30"/>
          </p:nvPr>
        </p:nvSpPr>
        <p:spPr>
          <a:xfrm>
            <a:off x="7881480" y="380520"/>
            <a:ext cx="668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898989"/>
                </a:solidFill>
                <a:latin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0C152-D1B0-48B0-9730-7C1F37DCA079}" type="slidenum">
              <a:rPr b="0" lang="ja-JP" sz="1000" spc="-1" strike="noStrike">
                <a:solidFill>
                  <a:srgbClr val="898989"/>
                </a:solidFill>
                <a:latin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 type="dt" idx="31"/>
          </p:nvPr>
        </p:nvSpPr>
        <p:spPr>
          <a:xfrm>
            <a:off x="5562360" y="379440"/>
            <a:ext cx="218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898989"/>
                </a:solidFill>
                <a:latin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44185-305A-44EC-8033-3548DCA5E6B6}" type="datetime">
              <a:rPr b="0" lang="ja-JP" sz="1000" spc="-1" strike="noStrike">
                <a:solidFill>
                  <a:srgbClr val="898989"/>
                </a:solidFill>
                <a:latin typeface="ＭＳ Ｐゴシック"/>
              </a:rPr>
              <a:t>26/07/31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 type="ftr" idx="32"/>
          </p:nvPr>
        </p:nvSpPr>
        <p:spPr>
          <a:xfrm>
            <a:off x="593280" y="379440"/>
            <a:ext cx="4830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 type="sldNum" idx="33"/>
          </p:nvPr>
        </p:nvSpPr>
        <p:spPr>
          <a:xfrm>
            <a:off x="7881480" y="380520"/>
            <a:ext cx="668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898989"/>
                </a:solidFill>
                <a:latin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1689C-1D37-4897-AC3A-A81C80D6A5D8}" type="slidenum">
              <a:rPr b="0" lang="ja-JP" sz="1000" spc="-1" strike="noStrike">
                <a:solidFill>
                  <a:srgbClr val="898989"/>
                </a:solidFill>
                <a:latin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 type="dt" idx="34"/>
          </p:nvPr>
        </p:nvSpPr>
        <p:spPr>
          <a:xfrm>
            <a:off x="5562360" y="380520"/>
            <a:ext cx="21826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898989"/>
                </a:solidFill>
                <a:latin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89D03-488A-44B8-AE8F-051273705005}" type="datetime">
              <a:rPr b="0" lang="ja-JP" sz="1000" spc="-1" strike="noStrike">
                <a:solidFill>
                  <a:srgbClr val="898989"/>
                </a:solidFill>
                <a:latin typeface="ＭＳ Ｐゴシック"/>
              </a:rPr>
              <a:t>26/07/31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 type="ftr" idx="35"/>
          </p:nvPr>
        </p:nvSpPr>
        <p:spPr>
          <a:xfrm>
            <a:off x="593280" y="380520"/>
            <a:ext cx="48308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 type="sldNum" idx="36"/>
          </p:nvPr>
        </p:nvSpPr>
        <p:spPr>
          <a:xfrm>
            <a:off x="7881480" y="380520"/>
            <a:ext cx="668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898989"/>
                </a:solidFill>
                <a:latin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51FF8-C786-49C4-9F2A-081DAA506F2F}" type="slidenum">
              <a:rPr b="0" lang="ja-JP" sz="1000" spc="-1" strike="noStrike">
                <a:solidFill>
                  <a:srgbClr val="898989"/>
                </a:solidFill>
                <a:latin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37"/>
          </p:nvPr>
        </p:nvSpPr>
        <p:spPr>
          <a:xfrm>
            <a:off x="5932080" y="4324320"/>
            <a:ext cx="2297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898989"/>
                </a:solidFill>
                <a:latin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7DBAF-B97D-45C0-A2EA-9B2981D9803B}" type="datetime">
              <a:rPr b="0" lang="ja-JP" sz="1000" spc="-1" strike="noStrike">
                <a:solidFill>
                  <a:srgbClr val="898989"/>
                </a:solidFill>
                <a:latin typeface="ＭＳ Ｐゴシック"/>
              </a:rPr>
              <a:t>26/07/31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38"/>
          </p:nvPr>
        </p:nvSpPr>
        <p:spPr>
          <a:xfrm>
            <a:off x="914040" y="4324320"/>
            <a:ext cx="4879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39"/>
          </p:nvPr>
        </p:nvSpPr>
        <p:spPr>
          <a:xfrm>
            <a:off x="6972480" y="6492960"/>
            <a:ext cx="2171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ja-JP" sz="2400" spc="-1" strike="noStrike">
                <a:solidFill>
                  <a:srgbClr val="000000"/>
                </a:solidFill>
                <a:latin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7E1AC-F721-4131-A9E0-15D8DBAFEA25}" type="slidenum"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40"/>
          </p:nvPr>
        </p:nvSpPr>
        <p:spPr>
          <a:xfrm>
            <a:off x="5932080" y="4324320"/>
            <a:ext cx="2297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21394-D014-4262-900C-A01D6F6D0668}" type="datetime">
              <a:rPr b="0" lang="ja-JP" sz="1000" spc="-1" strike="noStrike">
                <a:solidFill>
                  <a:srgbClr val="898989"/>
                </a:solidFill>
                <a:latin typeface="Times New Roman"/>
              </a:rPr>
              <a:t>26/07/31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41"/>
          </p:nvPr>
        </p:nvSpPr>
        <p:spPr>
          <a:xfrm>
            <a:off x="914040" y="4324320"/>
            <a:ext cx="4879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42"/>
          </p:nvPr>
        </p:nvSpPr>
        <p:spPr>
          <a:xfrm>
            <a:off x="6972480" y="6492960"/>
            <a:ext cx="2171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E238A-AF4A-4B30-B4B9-37190034445F}" type="slidenum"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 type="dt" idx="43"/>
          </p:nvPr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E2F48-8870-4EEF-8DE8-2E48ACC97CCC}" type="datetime">
              <a:rPr b="0" lang="ja-JP" sz="1000" spc="-1" strike="noStrike">
                <a:solidFill>
                  <a:srgbClr val="898989"/>
                </a:solidFill>
                <a:latin typeface="Times New Roman"/>
              </a:rPr>
              <a:t>26/07/31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 type="ftr" idx="44"/>
          </p:nvPr>
        </p:nvSpPr>
        <p:spPr>
          <a:xfrm>
            <a:off x="59328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 type="sldNum" idx="45"/>
          </p:nvPr>
        </p:nvSpPr>
        <p:spPr>
          <a:xfrm>
            <a:off x="6571800" y="380520"/>
            <a:ext cx="1978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47E30-4019-47C9-B365-5C0B06ACCE26}" type="slidenum">
              <a:rPr b="0" lang="ja-JP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 type="dt" idx="46"/>
          </p:nvPr>
        </p:nvSpPr>
        <p:spPr>
          <a:xfrm>
            <a:off x="5562360" y="380520"/>
            <a:ext cx="21826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F66EC-C02E-4B02-90C5-1D443A6B8490}" type="datetime">
              <a:rPr b="0" lang="ja-JP" sz="1000" spc="-1" strike="noStrike">
                <a:solidFill>
                  <a:srgbClr val="898989"/>
                </a:solidFill>
                <a:latin typeface="Times New Roman"/>
              </a:rPr>
              <a:t>26/07/31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 type="ftr" idx="47"/>
          </p:nvPr>
        </p:nvSpPr>
        <p:spPr>
          <a:xfrm>
            <a:off x="593280" y="380520"/>
            <a:ext cx="48308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8" name="PlaceHolder 5"/>
          <p:cNvSpPr>
            <a:spLocks noGrp="1"/>
          </p:cNvSpPr>
          <p:nvPr>
            <p:ph type="sldNum" idx="48"/>
          </p:nvPr>
        </p:nvSpPr>
        <p:spPr>
          <a:xfrm>
            <a:off x="8477280" y="6492960"/>
            <a:ext cx="666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5D385-9F57-4642-A451-4B28B0A512EF}" type="slidenum"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body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 type="dt" idx="49"/>
          </p:nvPr>
        </p:nvSpPr>
        <p:spPr>
          <a:xfrm>
            <a:off x="5562360" y="380520"/>
            <a:ext cx="21826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926D9-9905-4DCF-848F-6AF27D0FDFA2}" type="datetime">
              <a:rPr b="0" lang="ja-JP" sz="1000" spc="-1" strike="noStrike">
                <a:solidFill>
                  <a:srgbClr val="898989"/>
                </a:solidFill>
                <a:latin typeface="Times New Roman"/>
              </a:rPr>
              <a:t>26/07/31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 type="ftr" idx="50"/>
          </p:nvPr>
        </p:nvSpPr>
        <p:spPr>
          <a:xfrm>
            <a:off x="593280" y="379440"/>
            <a:ext cx="4830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9" name="PlaceHolder 5"/>
          <p:cNvSpPr>
            <a:spLocks noGrp="1"/>
          </p:cNvSpPr>
          <p:nvPr>
            <p:ph type="sldNum" idx="51"/>
          </p:nvPr>
        </p:nvSpPr>
        <p:spPr>
          <a:xfrm>
            <a:off x="7881480" y="380520"/>
            <a:ext cx="668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4BCBC-27F7-4113-BCF3-D02B88A4BF44}" type="slidenum">
              <a:rPr b="0" lang="ja-JP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 type="body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 type="dt" idx="52"/>
          </p:nvPr>
        </p:nvSpPr>
        <p:spPr>
          <a:xfrm>
            <a:off x="5562360" y="379440"/>
            <a:ext cx="218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07356-EB65-4865-B92B-3D2C10231DA7}" type="datetime">
              <a:rPr b="0" lang="ja-JP" sz="1000" spc="-1" strike="noStrike">
                <a:solidFill>
                  <a:srgbClr val="898989"/>
                </a:solidFill>
                <a:latin typeface="Times New Roman"/>
              </a:rPr>
              <a:t>26/07/31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 type="ftr" idx="53"/>
          </p:nvPr>
        </p:nvSpPr>
        <p:spPr>
          <a:xfrm>
            <a:off x="593280" y="379440"/>
            <a:ext cx="4830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0" name="PlaceHolder 5"/>
          <p:cNvSpPr>
            <a:spLocks noGrp="1"/>
          </p:cNvSpPr>
          <p:nvPr>
            <p:ph type="sldNum" idx="54"/>
          </p:nvPr>
        </p:nvSpPr>
        <p:spPr>
          <a:xfrm>
            <a:off x="7881480" y="380520"/>
            <a:ext cx="668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E0658-2120-422F-81F3-3E2D3FD66A01}" type="slidenum">
              <a:rPr b="0" lang="ja-JP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 type="body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 type="dt" idx="55"/>
          </p:nvPr>
        </p:nvSpPr>
        <p:spPr>
          <a:xfrm>
            <a:off x="5562360" y="380520"/>
            <a:ext cx="21826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44496-A9D7-4BFB-91D9-55E4DCECCD45}" type="datetime">
              <a:rPr b="0" lang="ja-JP" sz="1000" spc="-1" strike="noStrike">
                <a:solidFill>
                  <a:srgbClr val="898989"/>
                </a:solidFill>
                <a:latin typeface="Times New Roman"/>
              </a:rPr>
              <a:t>26/07/31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 type="ftr" idx="56"/>
          </p:nvPr>
        </p:nvSpPr>
        <p:spPr>
          <a:xfrm>
            <a:off x="593280" y="380520"/>
            <a:ext cx="48308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1" name="PlaceHolder 5"/>
          <p:cNvSpPr>
            <a:spLocks noGrp="1"/>
          </p:cNvSpPr>
          <p:nvPr>
            <p:ph type="sldNum" idx="57"/>
          </p:nvPr>
        </p:nvSpPr>
        <p:spPr>
          <a:xfrm>
            <a:off x="7881480" y="380520"/>
            <a:ext cx="668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4763F-7D24-4A55-8CD2-F10C3C01AEAF}" type="slidenum">
              <a:rPr b="0" lang="ja-JP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C2-HD-TOP.png"/>
          <p:cNvPicPr/>
          <p:nvPr/>
        </p:nvPicPr>
        <p:blipFill>
          <a:blip r:embed="rId2"/>
          <a:stretch/>
        </p:blipFill>
        <p:spPr>
          <a:xfrm>
            <a:off x="0" y="0"/>
            <a:ext cx="9144000" cy="10810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C2-HD-BTM.png"/>
          <p:cNvPicPr/>
          <p:nvPr/>
        </p:nvPicPr>
        <p:blipFill>
          <a:blip r:embed="rId3"/>
          <a:stretch/>
        </p:blipFill>
        <p:spPr>
          <a:xfrm>
            <a:off x="0" y="4995720"/>
            <a:ext cx="9144000" cy="18622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932080" y="4324320"/>
            <a:ext cx="2297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898989"/>
                </a:solidFill>
                <a:latin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71C80-79C0-47B1-98FE-B5EA8DECA225}" type="datetime">
              <a:rPr b="0" lang="ja-JP" sz="1000" spc="-1" strike="noStrike">
                <a:solidFill>
                  <a:srgbClr val="898989"/>
                </a:solidFill>
                <a:latin typeface="ＭＳ Ｐゴシック"/>
              </a:rPr>
              <a:t>26/07/31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914040" y="4324320"/>
            <a:ext cx="4879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972480" y="6492960"/>
            <a:ext cx="2171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ja-JP" sz="2400" spc="-1" strike="noStrike">
                <a:solidFill>
                  <a:srgbClr val="000000"/>
                </a:solidFill>
                <a:latin typeface="ＭＳ Ｐゴシック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01958-9072-4FB2-9141-0A5967387CB5}" type="slidenum"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 type="dt" idx="58"/>
          </p:nvPr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FCF1A-6A14-4384-8974-478E49C9A711}" type="datetime">
              <a:rPr b="0" lang="ja-JP" sz="1000" spc="-1" strike="noStrike">
                <a:solidFill>
                  <a:srgbClr val="898989"/>
                </a:solidFill>
                <a:latin typeface="Times New Roman"/>
              </a:rPr>
              <a:t>26/07/31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 type="ftr" idx="59"/>
          </p:nvPr>
        </p:nvSpPr>
        <p:spPr>
          <a:xfrm>
            <a:off x="59328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2" name="PlaceHolder 5"/>
          <p:cNvSpPr>
            <a:spLocks noGrp="1"/>
          </p:cNvSpPr>
          <p:nvPr>
            <p:ph type="sldNum" idx="60"/>
          </p:nvPr>
        </p:nvSpPr>
        <p:spPr>
          <a:xfrm>
            <a:off x="6571800" y="380520"/>
            <a:ext cx="1978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BD61D-BF6C-46A1-BB5C-2E35CE04AA0A}" type="slidenum">
              <a:rPr b="0" lang="ja-JP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7" descr="C2-HD-BTM.png"/>
          <p:cNvPicPr/>
          <p:nvPr/>
        </p:nvPicPr>
        <p:blipFill>
          <a:blip r:embed="rId2"/>
          <a:stretch/>
        </p:blipFill>
        <p:spPr>
          <a:xfrm>
            <a:off x="0" y="4995720"/>
            <a:ext cx="9144000" cy="186228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562360" y="380520"/>
            <a:ext cx="21826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898989"/>
                </a:solidFill>
                <a:latin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D7CE5-0133-4D45-A55B-4C3AFCD8BA08}" type="datetime">
              <a:rPr b="0" lang="ja-JP" sz="1000" spc="-1" strike="noStrike">
                <a:solidFill>
                  <a:srgbClr val="898989"/>
                </a:solidFill>
                <a:latin typeface="ＭＳ Ｐゴシック"/>
              </a:rPr>
              <a:t>26/07/31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593280" y="380520"/>
            <a:ext cx="48308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77280" y="6492960"/>
            <a:ext cx="666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ja-JP" sz="2400" spc="-1" strike="noStrike">
                <a:solidFill>
                  <a:srgbClr val="000000"/>
                </a:solidFill>
                <a:latin typeface="ＭＳ Ｐゴシック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E10CC-274A-4E1F-99EB-371EBADE5FBA}" type="slidenum"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14" descr="C2-HD-BTM.png"/>
          <p:cNvPicPr/>
          <p:nvPr/>
        </p:nvPicPr>
        <p:blipFill>
          <a:blip r:embed="rId2"/>
          <a:stretch/>
        </p:blipFill>
        <p:spPr>
          <a:xfrm>
            <a:off x="0" y="4995720"/>
            <a:ext cx="9144000" cy="1862280"/>
          </a:xfrm>
          <a:prstGeom prst="rect">
            <a:avLst/>
          </a:prstGeom>
          <a:ln w="0">
            <a:noFill/>
          </a:ln>
        </p:spPr>
      </p:pic>
      <p:sp>
        <p:nvSpPr>
          <p:cNvPr id="128" name="TextBox 12"/>
          <p:cNvSpPr/>
          <p:nvPr/>
        </p:nvSpPr>
        <p:spPr>
          <a:xfrm>
            <a:off x="231840" y="808200"/>
            <a:ext cx="45720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Lucida Sans Unicode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TextBox 13"/>
          <p:cNvSpPr/>
          <p:nvPr/>
        </p:nvSpPr>
        <p:spPr>
          <a:xfrm>
            <a:off x="8147160" y="3021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Lucida Sans Unicode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10"/>
          </p:nvPr>
        </p:nvSpPr>
        <p:spPr>
          <a:xfrm>
            <a:off x="5562360" y="380520"/>
            <a:ext cx="21826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898989"/>
                </a:solidFill>
                <a:latin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F0585-341D-4DBA-86A0-A68E85531FFD}" type="datetime">
              <a:rPr b="0" lang="ja-JP" sz="1000" spc="-1" strike="noStrike">
                <a:solidFill>
                  <a:srgbClr val="898989"/>
                </a:solidFill>
                <a:latin typeface="ＭＳ Ｐゴシック"/>
              </a:rPr>
              <a:t>26/07/31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11"/>
          </p:nvPr>
        </p:nvSpPr>
        <p:spPr>
          <a:xfrm>
            <a:off x="593280" y="379440"/>
            <a:ext cx="4830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12"/>
          </p:nvPr>
        </p:nvSpPr>
        <p:spPr>
          <a:xfrm>
            <a:off x="7881480" y="380520"/>
            <a:ext cx="668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898989"/>
                </a:solidFill>
                <a:latin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D36F1-5F5D-47E0-97FA-83585AFE97A7}" type="slidenum">
              <a:rPr b="0" lang="ja-JP" sz="1000" spc="-1" strike="noStrike">
                <a:solidFill>
                  <a:srgbClr val="898989"/>
                </a:solidFill>
                <a:latin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8" descr="C2-HD-BTM.png"/>
          <p:cNvPicPr/>
          <p:nvPr/>
        </p:nvPicPr>
        <p:blipFill>
          <a:blip r:embed="rId2"/>
          <a:stretch/>
        </p:blipFill>
        <p:spPr>
          <a:xfrm>
            <a:off x="0" y="4995720"/>
            <a:ext cx="9144000" cy="186228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5562360" y="379440"/>
            <a:ext cx="218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898989"/>
                </a:solidFill>
                <a:latin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C080F-283C-4FD4-AB1A-183E3EE219BD}" type="datetime">
              <a:rPr b="0" lang="ja-JP" sz="1000" spc="-1" strike="noStrike">
                <a:solidFill>
                  <a:srgbClr val="898989"/>
                </a:solidFill>
                <a:latin typeface="ＭＳ Ｐゴシック"/>
              </a:rPr>
              <a:t>26/07/31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593280" y="379440"/>
            <a:ext cx="4830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7881480" y="380520"/>
            <a:ext cx="668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898989"/>
                </a:solidFill>
                <a:latin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0A27C-DBFD-42E1-88EB-9B22E721400D}" type="slidenum">
              <a:rPr b="0" lang="ja-JP" sz="1000" spc="-1" strike="noStrike">
                <a:solidFill>
                  <a:srgbClr val="898989"/>
                </a:solidFill>
                <a:latin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7" descr="C2-HD-BTM.png"/>
          <p:cNvPicPr/>
          <p:nvPr/>
        </p:nvPicPr>
        <p:blipFill>
          <a:blip r:embed="rId2"/>
          <a:stretch/>
        </p:blipFill>
        <p:spPr>
          <a:xfrm>
            <a:off x="0" y="4995720"/>
            <a:ext cx="9144000" cy="1862280"/>
          </a:xfrm>
          <a:prstGeom prst="rect">
            <a:avLst/>
          </a:prstGeom>
          <a:ln w="0">
            <a:noFill/>
          </a:ln>
        </p:spPr>
      </p:pic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6"/>
          </p:nvPr>
        </p:nvSpPr>
        <p:spPr>
          <a:xfrm>
            <a:off x="5562360" y="380520"/>
            <a:ext cx="21826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898989"/>
                </a:solidFill>
                <a:latin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70157-72EB-44C4-AA1E-2A288E463A28}" type="datetime">
              <a:rPr b="0" lang="ja-JP" sz="1000" spc="-1" strike="noStrike">
                <a:solidFill>
                  <a:srgbClr val="898989"/>
                </a:solidFill>
                <a:latin typeface="ＭＳ Ｐゴシック"/>
              </a:rPr>
              <a:t>26/07/31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7"/>
          </p:nvPr>
        </p:nvSpPr>
        <p:spPr>
          <a:xfrm>
            <a:off x="593280" y="380520"/>
            <a:ext cx="48308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8"/>
          </p:nvPr>
        </p:nvSpPr>
        <p:spPr>
          <a:xfrm>
            <a:off x="7881480" y="380520"/>
            <a:ext cx="668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898989"/>
                </a:solidFill>
                <a:latin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F9492-9D90-4C41-9591-94E26509E022}" type="slidenum">
              <a:rPr b="0" lang="ja-JP" sz="1000" spc="-1" strike="noStrike">
                <a:solidFill>
                  <a:srgbClr val="898989"/>
                </a:solidFill>
                <a:latin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9"/>
          </p:nvPr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898989"/>
                </a:solidFill>
                <a:latin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5CC0D-1B51-4284-BE14-DC8AD176393F}" type="datetime">
              <a:rPr b="0" lang="ja-JP" sz="1000" spc="-1" strike="noStrike">
                <a:solidFill>
                  <a:srgbClr val="898989"/>
                </a:solidFill>
                <a:latin typeface="ＭＳ Ｐゴシック"/>
              </a:rPr>
              <a:t>26/07/31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ftr" idx="20"/>
          </p:nvPr>
        </p:nvSpPr>
        <p:spPr>
          <a:xfrm>
            <a:off x="59328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sldNum" idx="21"/>
          </p:nvPr>
        </p:nvSpPr>
        <p:spPr>
          <a:xfrm>
            <a:off x="6571800" y="380520"/>
            <a:ext cx="1978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898989"/>
                </a:solidFill>
                <a:latin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2FD31-C444-4E74-B720-403837BA07E1}" type="slidenum">
              <a:rPr b="0" lang="ja-JP" sz="1000" spc="-1" strike="noStrike">
                <a:solidFill>
                  <a:srgbClr val="898989"/>
                </a:solidFill>
                <a:latin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dt" idx="22"/>
          </p:nvPr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898989"/>
                </a:solidFill>
                <a:latin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1619F-B434-4CA9-8E94-DF934339BED6}" type="datetime">
              <a:rPr b="0" lang="ja-JP" sz="1000" spc="-1" strike="noStrike">
                <a:solidFill>
                  <a:srgbClr val="898989"/>
                </a:solidFill>
                <a:latin typeface="ＭＳ Ｐゴシック"/>
              </a:rPr>
              <a:t>26/07/31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 type="ftr" idx="23"/>
          </p:nvPr>
        </p:nvSpPr>
        <p:spPr>
          <a:xfrm>
            <a:off x="59328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 type="sldNum" idx="24"/>
          </p:nvPr>
        </p:nvSpPr>
        <p:spPr>
          <a:xfrm>
            <a:off x="6571800" y="380520"/>
            <a:ext cx="1978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898989"/>
                </a:solidFill>
                <a:latin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3146A-E779-4833-9D0A-2C03AFC2194D}" type="slidenum">
              <a:rPr b="0" lang="ja-JP" sz="1000" spc="-1" strike="noStrike">
                <a:solidFill>
                  <a:srgbClr val="898989"/>
                </a:solidFill>
                <a:latin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dt" idx="25"/>
          </p:nvPr>
        </p:nvSpPr>
        <p:spPr>
          <a:xfrm>
            <a:off x="5562360" y="380520"/>
            <a:ext cx="21826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898989"/>
                </a:solidFill>
                <a:latin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58B78-D04B-4294-9DBA-412A979F9395}" type="datetime">
              <a:rPr b="0" lang="ja-JP" sz="1000" spc="-1" strike="noStrike">
                <a:solidFill>
                  <a:srgbClr val="898989"/>
                </a:solidFill>
                <a:latin typeface="ＭＳ Ｐゴシック"/>
              </a:rPr>
              <a:t>26/07/31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ftr" idx="26"/>
          </p:nvPr>
        </p:nvSpPr>
        <p:spPr>
          <a:xfrm>
            <a:off x="593280" y="380520"/>
            <a:ext cx="48308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 type="sldNum" idx="27"/>
          </p:nvPr>
        </p:nvSpPr>
        <p:spPr>
          <a:xfrm>
            <a:off x="8477280" y="6492960"/>
            <a:ext cx="666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ja-JP" sz="2400" spc="-1" strike="noStrike">
                <a:solidFill>
                  <a:srgbClr val="000000"/>
                </a:solidFill>
                <a:latin typeface="ＭＳ Ｐゴシック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795AB-2795-49E9-A5B5-8C65A1F0EC86}" type="slidenum"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スライド番号プレースホルダー 3"/>
          <p:cNvSpPr/>
          <p:nvPr/>
        </p:nvSpPr>
        <p:spPr>
          <a:xfrm>
            <a:off x="6972480" y="6492960"/>
            <a:ext cx="2171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7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B9035-D410-4A62-A9B6-2E48D3145600}" type="slidenum">
              <a:rPr b="1" lang="ja-JP" sz="1800" spc="-1" strike="noStrike">
                <a:solidFill>
                  <a:srgbClr val="000000"/>
                </a:solidFill>
                <a:latin typeface="ＭＳ Ｐゴシック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914400" y="1341000"/>
            <a:ext cx="7315200" cy="182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800" spc="-1" strike="noStrike">
                <a:solidFill>
                  <a:srgbClr val="002060"/>
                </a:solidFill>
                <a:latin typeface="MS UI Gothic"/>
                <a:ea typeface="MS UI Gothic"/>
              </a:rPr>
              <a:t>オープンデータの取り組み</a:t>
            </a:r>
            <a:br>
              <a:rPr sz="4800"/>
            </a:br>
            <a:r>
              <a:rPr b="0" lang="ja-JP" sz="4800" spc="-1" strike="noStrike">
                <a:solidFill>
                  <a:srgbClr val="002060"/>
                </a:solidFill>
                <a:latin typeface="MS UI Gothic"/>
                <a:ea typeface="MS UI Gothic"/>
              </a:rPr>
              <a:t>について</a:t>
            </a:r>
            <a:endParaRPr b="0" lang="en-US" sz="4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 type="subTitle"/>
          </p:nvPr>
        </p:nvSpPr>
        <p:spPr>
          <a:xfrm>
            <a:off x="914400" y="4267080"/>
            <a:ext cx="7315200" cy="18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Century Gothic"/>
              </a:rPr>
              <a:t>令和２年１月７日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Century Gothic"/>
              </a:rPr>
              <a:t>流山市　総合政策部　情報政策・改革改善課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Century Gothic"/>
              </a:rPr>
              <a:t>課長補佐　佐藤　慎一郎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スライド番号プレースホルダー 3"/>
          <p:cNvSpPr/>
          <p:nvPr/>
        </p:nvSpPr>
        <p:spPr>
          <a:xfrm>
            <a:off x="8477280" y="6492960"/>
            <a:ext cx="666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7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49F88-8258-44B1-A207-099D98063784}" type="slidenum">
              <a:rPr b="1" lang="ja-JP" sz="1800" spc="-1" strike="noStrike">
                <a:solidFill>
                  <a:srgbClr val="000000"/>
                </a:solidFill>
                <a:latin typeface="ＭＳ Ｐゴシック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795636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2060"/>
                </a:solidFill>
                <a:latin typeface="メイリオ"/>
              </a:rPr>
              <a:t>オープンデータに適したデータ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82" name="テキスト ボックス 6"/>
          <p:cNvSpPr/>
          <p:nvPr/>
        </p:nvSpPr>
        <p:spPr>
          <a:xfrm>
            <a:off x="250920" y="1268280"/>
            <a:ext cx="8713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オープンデータでは、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3" name="テキスト ボックス 7"/>
          <p:cNvSpPr/>
          <p:nvPr/>
        </p:nvSpPr>
        <p:spPr>
          <a:xfrm>
            <a:off x="395280" y="1773360"/>
            <a:ext cx="1584360" cy="576000"/>
          </a:xfrm>
          <a:prstGeom prst="roundRect">
            <a:avLst>
              <a:gd name="adj" fmla="val 16667"/>
            </a:avLst>
          </a:prstGeom>
          <a:solidFill>
            <a:srgbClr val="4ec0e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価値あるデータ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4" name="テキスト ボックス 8"/>
          <p:cNvSpPr/>
          <p:nvPr/>
        </p:nvSpPr>
        <p:spPr>
          <a:xfrm>
            <a:off x="2627280" y="1773360"/>
            <a:ext cx="2376360" cy="576000"/>
          </a:xfrm>
          <a:prstGeom prst="roundRect">
            <a:avLst>
              <a:gd name="adj" fmla="val 16667"/>
            </a:avLst>
          </a:prstGeom>
          <a:solidFill>
            <a:srgbClr val="0d5d7b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ＭＳ Ｐゴシック"/>
              </a:rPr>
              <a:t>使いやすいデータ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5" name="正方形/長方形 9"/>
          <p:cNvSpPr/>
          <p:nvPr/>
        </p:nvSpPr>
        <p:spPr>
          <a:xfrm>
            <a:off x="2050920" y="1844640"/>
            <a:ext cx="505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0e5d7b"/>
                </a:solidFill>
                <a:latin typeface="ＭＳ Ｐゴシック"/>
              </a:rPr>
              <a:t>＝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6" name="右矢印 10"/>
          <p:cNvSpPr/>
          <p:nvPr/>
        </p:nvSpPr>
        <p:spPr>
          <a:xfrm>
            <a:off x="5219640" y="1916280"/>
            <a:ext cx="289080" cy="3603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e5d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887" name="テキスト ボックス 11"/>
          <p:cNvGrpSpPr/>
          <p:nvPr/>
        </p:nvGrpSpPr>
        <p:grpSpPr>
          <a:xfrm>
            <a:off x="5705640" y="1542960"/>
            <a:ext cx="2914560" cy="1108080"/>
            <a:chOff x="5705640" y="1542960"/>
            <a:chExt cx="2914560" cy="1108080"/>
          </a:xfrm>
        </p:grpSpPr>
        <p:pic>
          <p:nvPicPr>
            <p:cNvPr id="888" name="テキスト ボックス 11" descr=""/>
            <p:cNvPicPr/>
            <p:nvPr/>
          </p:nvPicPr>
          <p:blipFill>
            <a:blip r:embed="rId1"/>
            <a:stretch/>
          </p:blipFill>
          <p:spPr>
            <a:xfrm>
              <a:off x="5705640" y="1542960"/>
              <a:ext cx="2914560" cy="11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9" name="Rectangle 183"/>
            <p:cNvSpPr/>
            <p:nvPr/>
          </p:nvSpPr>
          <p:spPr>
            <a:xfrm>
              <a:off x="5776920" y="1609560"/>
              <a:ext cx="2774880" cy="97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400" spc="-1" strike="noStrike">
                  <a:solidFill>
                    <a:srgbClr val="0000cc"/>
                  </a:solidFill>
                  <a:latin typeface="ＭＳ Ｐゴシック"/>
                </a:rPr>
                <a:t>コンピュータで</a:t>
              </a:r>
              <a:endParaRPr b="0" lang="en-US" sz="2400" spc="-1" strike="noStrike">
                <a:solidFill>
                  <a:srgbClr val="000000"/>
                </a:solidFill>
                <a:latin typeface="Lucida Sans Unicode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400" spc="-1" strike="noStrike">
                  <a:solidFill>
                    <a:srgbClr val="0000cc"/>
                  </a:solidFill>
                  <a:latin typeface="ＭＳ Ｐゴシック"/>
                </a:rPr>
                <a:t>扱いやすいこと</a:t>
              </a:r>
              <a:endParaRPr b="0" lang="en-US" sz="24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grpSp>
        <p:nvGrpSpPr>
          <p:cNvPr id="890" name="正方形/長方形 12"/>
          <p:cNvGrpSpPr/>
          <p:nvPr/>
        </p:nvGrpSpPr>
        <p:grpSpPr>
          <a:xfrm>
            <a:off x="669960" y="4280040"/>
            <a:ext cx="8096040" cy="1395360"/>
            <a:chOff x="669960" y="4280040"/>
            <a:chExt cx="8096040" cy="1395360"/>
          </a:xfrm>
        </p:grpSpPr>
        <p:pic>
          <p:nvPicPr>
            <p:cNvPr id="891" name="正方形/長方形 12" descr=""/>
            <p:cNvPicPr/>
            <p:nvPr/>
          </p:nvPicPr>
          <p:blipFill>
            <a:blip r:embed="rId2"/>
            <a:stretch/>
          </p:blipFill>
          <p:spPr>
            <a:xfrm>
              <a:off x="669960" y="4280040"/>
              <a:ext cx="8096040" cy="13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2" name="Rectangle 186"/>
            <p:cNvSpPr/>
            <p:nvPr/>
          </p:nvSpPr>
          <p:spPr>
            <a:xfrm>
              <a:off x="684360" y="4292640"/>
              <a:ext cx="8064360" cy="136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marL="262080" indent="-262080">
                <a:lnSpc>
                  <a:spcPct val="100000"/>
                </a:lnSpc>
                <a:spcBef>
                  <a:spcPts val="601"/>
                </a:spcBef>
                <a:buClr>
                  <a:srgbClr val="0e5d7b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000000"/>
                  </a:solidFill>
                  <a:latin typeface="ＭＳ Ｐゴシック"/>
                </a:rPr>
                <a:t>コンピュータが読み取りやすい形であることを「機械判読に適している」という</a:t>
              </a: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  <a:p>
              <a:pPr marL="262080" indent="-262080">
                <a:lnSpc>
                  <a:spcPct val="100000"/>
                </a:lnSpc>
                <a:spcBef>
                  <a:spcPts val="601"/>
                </a:spcBef>
                <a:buClr>
                  <a:srgbClr val="0e5d7b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000000"/>
                  </a:solidFill>
                  <a:latin typeface="ＭＳ Ｐゴシック"/>
                </a:rPr>
                <a:t>データの構造（例えばタイトルや図表等）をコンピュータが判別しやすく、構造の中の値（例えば数値やテキスト等）が処理しやすい形式になっていることを表す</a:t>
              </a: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grpSp>
        <p:nvGrpSpPr>
          <p:cNvPr id="893" name="グループ化 13"/>
          <p:cNvGrpSpPr/>
          <p:nvPr/>
        </p:nvGrpSpPr>
        <p:grpSpPr>
          <a:xfrm>
            <a:off x="2556000" y="3716280"/>
            <a:ext cx="3960720" cy="73080"/>
            <a:chOff x="2556000" y="3716280"/>
            <a:chExt cx="3960720" cy="73080"/>
          </a:xfrm>
        </p:grpSpPr>
        <p:sp>
          <p:nvSpPr>
            <p:cNvPr id="894" name="直線コネクタ 14"/>
            <p:cNvSpPr/>
            <p:nvPr/>
          </p:nvSpPr>
          <p:spPr>
            <a:xfrm>
              <a:off x="2556000" y="3716280"/>
              <a:ext cx="396072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895" name="直線コネクタ 15"/>
            <p:cNvSpPr/>
            <p:nvPr/>
          </p:nvSpPr>
          <p:spPr>
            <a:xfrm>
              <a:off x="2556000" y="3789360"/>
              <a:ext cx="396072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sp>
        <p:nvSpPr>
          <p:cNvPr id="896" name="下矢印 35"/>
          <p:cNvSpPr/>
          <p:nvPr/>
        </p:nvSpPr>
        <p:spPr>
          <a:xfrm>
            <a:off x="4356000" y="3933720"/>
            <a:ext cx="432000" cy="2160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d5d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97" name="正方形/長方形 17"/>
          <p:cNvSpPr/>
          <p:nvPr/>
        </p:nvSpPr>
        <p:spPr>
          <a:xfrm>
            <a:off x="755640" y="3284640"/>
            <a:ext cx="82803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  <a:ea typeface="Meiryo UI"/>
              </a:rPr>
              <a:t>オープンデータは、</a:t>
            </a:r>
            <a:r>
              <a:rPr b="1" lang="ja-JP" sz="2400" spc="-1" strike="noStrike">
                <a:solidFill>
                  <a:srgbClr val="000000"/>
                </a:solidFill>
                <a:latin typeface="ＭＳ Ｐゴシック"/>
                <a:ea typeface="Meiryo UI"/>
              </a:rPr>
              <a:t>コンピュータが読み取りやすい形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  <a:ea typeface="Meiryo UI"/>
              </a:rPr>
              <a:t>が望ましい。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98" name="テキスト ボックス 6"/>
          <p:cNvSpPr/>
          <p:nvPr/>
        </p:nvSpPr>
        <p:spPr>
          <a:xfrm>
            <a:off x="669960" y="5661000"/>
            <a:ext cx="8096040" cy="36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出展：オープンデータ化支援研修（総務省）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9" name="図 1" descr=""/>
          <p:cNvPicPr/>
          <p:nvPr/>
        </p:nvPicPr>
        <p:blipFill>
          <a:blip r:embed="rId1"/>
          <a:stretch/>
        </p:blipFill>
        <p:spPr>
          <a:xfrm>
            <a:off x="390600" y="1123920"/>
            <a:ext cx="8362800" cy="4753080"/>
          </a:xfrm>
          <a:prstGeom prst="rect">
            <a:avLst/>
          </a:prstGeom>
          <a:ln w="0">
            <a:noFill/>
          </a:ln>
        </p:spPr>
      </p:pic>
      <p:sp>
        <p:nvSpPr>
          <p:cNvPr id="900" name="スライド番号プレースホルダー 3"/>
          <p:cNvSpPr/>
          <p:nvPr/>
        </p:nvSpPr>
        <p:spPr>
          <a:xfrm>
            <a:off x="8477280" y="6492960"/>
            <a:ext cx="666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7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30AFB-FB2E-4DB2-AEF5-5E428AB773A5}" type="slidenum">
              <a:rPr b="1" lang="ja-JP" sz="1800" spc="-1" strike="noStrike">
                <a:solidFill>
                  <a:srgbClr val="000000"/>
                </a:solidFill>
                <a:latin typeface="ＭＳ Ｐゴシック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795636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2060"/>
                </a:solidFill>
                <a:latin typeface="メイリオ"/>
              </a:rPr>
              <a:t>オープンデータに適したファイル形式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02" name="テキスト ボックス 7"/>
          <p:cNvSpPr/>
          <p:nvPr/>
        </p:nvSpPr>
        <p:spPr>
          <a:xfrm>
            <a:off x="468360" y="907920"/>
            <a:ext cx="3382920" cy="1800360"/>
          </a:xfrm>
          <a:prstGeom prst="roundRect">
            <a:avLst>
              <a:gd name="adj" fmla="val 16667"/>
            </a:avLst>
          </a:prstGeom>
          <a:solidFill>
            <a:srgbClr val="99ffc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ＭＳ Ｐゴシック"/>
              </a:rPr>
              <a:t>OL</a:t>
            </a: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：</a:t>
            </a:r>
            <a:r>
              <a:rPr b="0" lang="en-US" sz="1600" spc="-1" strike="noStrike">
                <a:solidFill>
                  <a:srgbClr val="000000"/>
                </a:solidFill>
                <a:latin typeface="ＭＳ Ｐゴシック"/>
              </a:rPr>
              <a:t>Open License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ＭＳ Ｐゴシック"/>
              </a:rPr>
              <a:t>RE</a:t>
            </a: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：</a:t>
            </a:r>
            <a:r>
              <a:rPr b="0" lang="en-US" sz="1600" spc="-1" strike="noStrike">
                <a:solidFill>
                  <a:srgbClr val="000000"/>
                </a:solidFill>
                <a:latin typeface="ＭＳ Ｐゴシック"/>
              </a:rPr>
              <a:t>Reusable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ＭＳ Ｐゴシック"/>
              </a:rPr>
              <a:t>OF</a:t>
            </a: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：</a:t>
            </a:r>
            <a:r>
              <a:rPr b="0" lang="en-US" sz="1600" spc="-1" strike="noStrike">
                <a:solidFill>
                  <a:srgbClr val="000000"/>
                </a:solidFill>
                <a:latin typeface="ＭＳ Ｐゴシック"/>
              </a:rPr>
              <a:t>Open Format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ＭＳ Ｐゴシック"/>
              </a:rPr>
              <a:t>URI</a:t>
            </a: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：</a:t>
            </a:r>
            <a:r>
              <a:rPr b="0" lang="en-US" sz="1600" spc="-1" strike="noStrike">
                <a:solidFill>
                  <a:srgbClr val="000000"/>
                </a:solidFill>
                <a:latin typeface="ＭＳ Ｐゴシック"/>
              </a:rPr>
              <a:t>Uniform Resource Identifier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ＭＳ Ｐゴシック"/>
              </a:rPr>
              <a:t>LD</a:t>
            </a: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：</a:t>
            </a:r>
            <a:r>
              <a:rPr b="0" lang="en-US" sz="1600" spc="-1" strike="noStrike">
                <a:solidFill>
                  <a:srgbClr val="000000"/>
                </a:solidFill>
                <a:latin typeface="ＭＳ Ｐゴシック"/>
              </a:rPr>
              <a:t>Linked</a:t>
            </a: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ＭＳ Ｐゴシック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03" name="テキスト ボックス 6"/>
          <p:cNvSpPr/>
          <p:nvPr/>
        </p:nvSpPr>
        <p:spPr>
          <a:xfrm>
            <a:off x="390600" y="5872320"/>
            <a:ext cx="8362800" cy="36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出展：オープンデータリーダ育成研修（総務省）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スライド番号プレースホルダー 3"/>
          <p:cNvSpPr/>
          <p:nvPr/>
        </p:nvSpPr>
        <p:spPr>
          <a:xfrm>
            <a:off x="8477280" y="6492960"/>
            <a:ext cx="666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7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325FF-2842-4CC7-9440-38D743EFCBCC}" type="slidenum">
              <a:rPr b="1" lang="ja-JP" sz="1800" spc="-1" strike="noStrike">
                <a:solidFill>
                  <a:srgbClr val="000000"/>
                </a:solidFill>
                <a:latin typeface="ＭＳ Ｐゴシック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795636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2060"/>
                </a:solidFill>
                <a:latin typeface="メイリオ"/>
              </a:rPr>
              <a:t>情報の種類に適したファイル形式の例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06" name="正方形/長方形 4"/>
          <p:cNvSpPr/>
          <p:nvPr/>
        </p:nvSpPr>
        <p:spPr>
          <a:xfrm>
            <a:off x="496800" y="1052640"/>
            <a:ext cx="83152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情報の種類によって、適したファイル形式も異なる。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aphicFrame>
        <p:nvGraphicFramePr>
          <p:cNvPr id="907" name=""/>
          <p:cNvGraphicFramePr/>
          <p:nvPr/>
        </p:nvGraphicFramePr>
        <p:xfrm>
          <a:off x="784080" y="1557360"/>
          <a:ext cx="7713720" cy="2814480"/>
        </p:xfrm>
        <a:graphic>
          <a:graphicData uri="http://schemas.openxmlformats.org/drawingml/2006/table">
            <a:tbl>
              <a:tblPr/>
              <a:tblGrid>
                <a:gridCol w="4176720"/>
                <a:gridCol w="1876680"/>
                <a:gridCol w="1660320"/>
              </a:tblGrid>
              <a:tr h="338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6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情報の種類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88fe2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6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ファイル形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88fe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統計情報、施設の一覧など一覧形式となっている情報、予算・決算情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b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表形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b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Excel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形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CSV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形式　な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bf4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報告書など、文章による情報や、図形、画像等が混在している情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e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文書形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e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PDF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形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Word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形式　な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efa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主に地図と組合せて利用する情報で、線や面などのデータを含むも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b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地理空間情報形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b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shp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形式な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bf4"/>
                    </a:solidFill>
                  </a:tcPr>
                </a:tc>
              </a:tr>
            </a:tbl>
          </a:graphicData>
        </a:graphic>
      </p:graphicFrame>
      <p:sp>
        <p:nvSpPr>
          <p:cNvPr id="908" name="正方形/長方形 7"/>
          <p:cNvSpPr/>
          <p:nvPr/>
        </p:nvSpPr>
        <p:spPr>
          <a:xfrm>
            <a:off x="1073160" y="5157720"/>
            <a:ext cx="742464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オープンデータとして公開する際は、利用者が加工しやすく、コンピュータ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プログラムが処理しやすい</a:t>
            </a:r>
            <a:r>
              <a:rPr b="1" lang="ja-JP" sz="2800" spc="-1" strike="noStrike">
                <a:solidFill>
                  <a:srgbClr val="000000"/>
                </a:solidFill>
                <a:latin typeface="ＭＳ Ｐゴシック"/>
              </a:rPr>
              <a:t>「</a:t>
            </a:r>
            <a:r>
              <a:rPr b="1" lang="en-US" sz="2800" spc="-1" strike="noStrike">
                <a:solidFill>
                  <a:srgbClr val="000000"/>
                </a:solidFill>
                <a:latin typeface="ＭＳ Ｐゴシック"/>
              </a:rPr>
              <a:t>CSV</a:t>
            </a:r>
            <a:r>
              <a:rPr b="1" lang="ja-JP" sz="2800" spc="-1" strike="noStrike">
                <a:solidFill>
                  <a:srgbClr val="000000"/>
                </a:solidFill>
                <a:latin typeface="ＭＳ Ｐゴシック"/>
              </a:rPr>
              <a:t>形式」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とする。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09" name="星 16 27"/>
          <p:cNvSpPr/>
          <p:nvPr/>
        </p:nvSpPr>
        <p:spPr>
          <a:xfrm>
            <a:off x="712800" y="4653000"/>
            <a:ext cx="1224000" cy="647640"/>
          </a:xfrm>
          <a:custGeom>
            <a:avLst/>
            <a:gdLst>
              <a:gd name="textAreaLeft" fmla="*/ 279360 w 1224000"/>
              <a:gd name="textAreaRight" fmla="*/ 944640 w 1224000"/>
              <a:gd name="textAreaTop" fmla="*/ 147600 h 647640"/>
              <a:gd name="textAreaBottom" fmla="*/ 500040 h 647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85a7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ＭＳ Ｐゴシック"/>
              </a:rPr>
              <a:t>オススメ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0" name="テキスト ボックス 6"/>
          <p:cNvSpPr/>
          <p:nvPr/>
        </p:nvSpPr>
        <p:spPr>
          <a:xfrm>
            <a:off x="669960" y="6159600"/>
            <a:ext cx="8096040" cy="36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出展：オープンデータ化支援研修（総務省）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スライド番号プレースホルダー 3"/>
          <p:cNvSpPr/>
          <p:nvPr/>
        </p:nvSpPr>
        <p:spPr>
          <a:xfrm>
            <a:off x="8477280" y="6492960"/>
            <a:ext cx="666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7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5792F-F9C1-4D94-81E1-B24049F25B8B}" type="slidenum">
              <a:rPr b="1" lang="ja-JP" sz="1800" spc="-1" strike="noStrike">
                <a:solidFill>
                  <a:srgbClr val="000000"/>
                </a:solidFill>
                <a:latin typeface="ＭＳ Ｐゴシック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795636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2060"/>
                </a:solidFill>
                <a:latin typeface="メイリオ"/>
              </a:rPr>
              <a:t>推奨データセット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13" name="スライド番号プレースホルダー 2"/>
          <p:cNvSpPr/>
          <p:nvPr/>
        </p:nvSpPr>
        <p:spPr>
          <a:xfrm>
            <a:off x="8604360" y="6524640"/>
            <a:ext cx="5047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4" name="正方形/長方形 8"/>
          <p:cNvSpPr/>
          <p:nvPr/>
        </p:nvSpPr>
        <p:spPr>
          <a:xfrm>
            <a:off x="539640" y="907920"/>
            <a:ext cx="8353440" cy="20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t">
            <a:normAutofit fontScale="97000"/>
          </a:bodyPr>
          <a:p>
            <a:pPr marL="277200" indent="-277200">
              <a:lnSpc>
                <a:spcPct val="100000"/>
              </a:lnSpc>
              <a:spcBef>
                <a:spcPts val="601"/>
              </a:spcBef>
              <a:buClr>
                <a:srgbClr val="0e5d7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世界最先端</a:t>
            </a: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IT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国家創造宣言・官民データ活用推進基本計画における重点分野や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277200" indent="-27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　　「地方公共団体アンケート」（平成</a:t>
            </a: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28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年</a:t>
            </a: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12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月実施）における</a:t>
            </a:r>
            <a:r>
              <a:rPr b="1" lang="ja-JP" sz="1800" spc="-1" strike="noStrike" u="sng">
                <a:solidFill>
                  <a:srgbClr val="000000"/>
                </a:solidFill>
                <a:uFillTx/>
                <a:latin typeface="ＭＳ Ｐゴシック"/>
              </a:rPr>
              <a:t>ニーズの高い分野を中　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277200" indent="-27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　　</a:t>
            </a:r>
            <a:r>
              <a:rPr b="1" lang="ja-JP" sz="1800" spc="-1" strike="noStrike" u="sng">
                <a:solidFill>
                  <a:srgbClr val="000000"/>
                </a:solidFill>
                <a:uFillTx/>
                <a:latin typeface="ＭＳ Ｐゴシック"/>
              </a:rPr>
              <a:t>心に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先進地方公共団体の公開済データ等を参考にしつつ</a:t>
            </a:r>
            <a:r>
              <a:rPr b="1" lang="ja-JP" sz="1800" spc="-1" strike="noStrike" u="sng">
                <a:solidFill>
                  <a:srgbClr val="000000"/>
                </a:solidFill>
                <a:uFillTx/>
                <a:latin typeface="ＭＳ Ｐゴシック"/>
              </a:rPr>
              <a:t>データセットを選定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277200" indent="-277200">
              <a:lnSpc>
                <a:spcPct val="100000"/>
              </a:lnSpc>
              <a:spcBef>
                <a:spcPts val="601"/>
              </a:spcBef>
              <a:buClr>
                <a:srgbClr val="0e5d7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「推奨データセット」は、地方公共団体によるオープンデータの公開とその利活用を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277200" indent="-27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　　促進するため、</a:t>
            </a:r>
            <a:r>
              <a:rPr b="1" lang="ja-JP" sz="1800" spc="-1" strike="noStrike" u="sng">
                <a:solidFill>
                  <a:srgbClr val="000000"/>
                </a:solidFill>
                <a:uFillTx/>
                <a:latin typeface="ＭＳ Ｐゴシック"/>
              </a:rPr>
              <a:t>オープンデータに取り組み始める地方公共団体の参考となるよう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277200" indent="-27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　　</a:t>
            </a:r>
            <a:r>
              <a:rPr b="1" lang="ja-JP" sz="1800" spc="-1" strike="noStrike" u="sng">
                <a:solidFill>
                  <a:srgbClr val="000000"/>
                </a:solidFill>
                <a:uFillTx/>
                <a:latin typeface="ＭＳ Ｐゴシック"/>
              </a:rPr>
              <a:t>公開することが推奨されるデータセット及びフォーマット標準例をとりまとめたもの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aphicFrame>
        <p:nvGraphicFramePr>
          <p:cNvPr id="915" name=""/>
          <p:cNvGraphicFramePr/>
          <p:nvPr/>
        </p:nvGraphicFramePr>
        <p:xfrm>
          <a:off x="826920" y="3213000"/>
          <a:ext cx="3713400" cy="2705040"/>
        </p:xfrm>
        <a:graphic>
          <a:graphicData uri="http://schemas.openxmlformats.org/drawingml/2006/table">
            <a:tbl>
              <a:tblPr/>
              <a:tblGrid>
                <a:gridCol w="3713400"/>
              </a:tblGrid>
              <a:tr h="338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6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推奨データセット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(</a:t>
                      </a:r>
                      <a:r>
                        <a:rPr b="1" lang="ja-JP" sz="16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基本編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27ca4"/>
                    </a:solidFill>
                  </a:tcPr>
                </a:tc>
              </a:tr>
              <a:tr h="33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01.AED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設置箇所一覧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7e0"/>
                    </a:solidFill>
                  </a:tcPr>
                </a:tc>
              </a:tr>
              <a:tr h="33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02.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介護サービス事業所一覧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0"/>
                    </a:solidFill>
                  </a:tcPr>
                </a:tc>
              </a:tr>
              <a:tr h="33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03.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医療機関一覧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7e0"/>
                    </a:solidFill>
                  </a:tcPr>
                </a:tc>
              </a:tr>
              <a:tr h="33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04.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文化財一覧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0"/>
                    </a:solidFill>
                  </a:tcPr>
                </a:tc>
              </a:tr>
              <a:tr h="33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05.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観光施設一覧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7e0"/>
                    </a:solidFill>
                  </a:tcPr>
                </a:tc>
              </a:tr>
              <a:tr h="33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06.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イベント一覧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0"/>
                    </a:solidFill>
                  </a:tcPr>
                </a:tc>
              </a:tr>
              <a:tr h="33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07.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公衆無線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LAN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アクセスポイント一覧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7e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16" name=""/>
          <p:cNvGraphicFramePr/>
          <p:nvPr/>
        </p:nvGraphicFramePr>
        <p:xfrm>
          <a:off x="4716360" y="3213000"/>
          <a:ext cx="3713400" cy="2705040"/>
        </p:xfrm>
        <a:graphic>
          <a:graphicData uri="http://schemas.openxmlformats.org/drawingml/2006/table">
            <a:tbl>
              <a:tblPr/>
              <a:tblGrid>
                <a:gridCol w="3713400"/>
              </a:tblGrid>
              <a:tr h="338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6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推奨データセット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(</a:t>
                      </a:r>
                      <a:r>
                        <a:rPr b="1" lang="ja-JP" sz="16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基本編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27ca4"/>
                    </a:solidFill>
                  </a:tcPr>
                </a:tc>
              </a:tr>
              <a:tr h="33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08.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公衆トイレ一覧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7e0"/>
                    </a:solidFill>
                  </a:tcPr>
                </a:tc>
              </a:tr>
              <a:tr h="33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09.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消防水利施設一覧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0"/>
                    </a:solidFill>
                  </a:tcPr>
                </a:tc>
              </a:tr>
              <a:tr h="33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10.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指定緊急避難場所一覧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7e0"/>
                    </a:solidFill>
                  </a:tcPr>
                </a:tc>
              </a:tr>
              <a:tr h="33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11.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地域・年齢別人口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0"/>
                    </a:solidFill>
                  </a:tcPr>
                </a:tc>
              </a:tr>
              <a:tr h="33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12.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公共施設一覧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7e0"/>
                    </a:solidFill>
                  </a:tcPr>
                </a:tc>
              </a:tr>
              <a:tr h="33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13.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子育て施設一覧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0"/>
                    </a:solidFill>
                  </a:tcPr>
                </a:tc>
              </a:tr>
              <a:tr h="33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14.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オープンデータ一覧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7e0"/>
                    </a:solidFill>
                  </a:tcPr>
                </a:tc>
              </a:tr>
            </a:tbl>
          </a:graphicData>
        </a:graphic>
      </p:graphicFrame>
      <p:sp>
        <p:nvSpPr>
          <p:cNvPr id="917" name="正方形/長方形 11"/>
          <p:cNvSpPr/>
          <p:nvPr/>
        </p:nvSpPr>
        <p:spPr>
          <a:xfrm>
            <a:off x="826920" y="5904000"/>
            <a:ext cx="7632720" cy="58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出典：平成</a:t>
            </a: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30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年</a:t>
            </a: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12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月</a:t>
            </a: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3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日　内閣官房情報通信技術（</a:t>
            </a: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IT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）総合戦略室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　　　　「推奨データセットについて」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スライド番号プレースホルダー 3"/>
          <p:cNvSpPr/>
          <p:nvPr/>
        </p:nvSpPr>
        <p:spPr>
          <a:xfrm>
            <a:off x="8477280" y="6492960"/>
            <a:ext cx="666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7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C8DCB-A960-4F18-A172-CB121FED5F02}" type="slidenum">
              <a:rPr b="1" lang="ja-JP" sz="1800" spc="-1" strike="noStrike">
                <a:solidFill>
                  <a:srgbClr val="000000"/>
                </a:solidFill>
                <a:latin typeface="ＭＳ Ｐゴシック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795636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2060"/>
                </a:solidFill>
                <a:latin typeface="メイリオ"/>
              </a:rPr>
              <a:t>推奨データセット一覧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0" name="スライド番号プレースホルダー 2"/>
          <p:cNvSpPr/>
          <p:nvPr/>
        </p:nvSpPr>
        <p:spPr>
          <a:xfrm>
            <a:off x="8604360" y="6524640"/>
            <a:ext cx="5047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1" name="正方形/長方形 12"/>
          <p:cNvSpPr/>
          <p:nvPr/>
        </p:nvSpPr>
        <p:spPr>
          <a:xfrm>
            <a:off x="858960" y="6093000"/>
            <a:ext cx="7445160" cy="72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出典：政府</a:t>
            </a: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CIO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ポータル「オープンデータ</a:t>
            </a: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-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推奨データセット」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　　　　（</a:t>
            </a: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https://cio.go.jp/policy-opendata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2" name="テキスト ボックス 14"/>
          <p:cNvSpPr/>
          <p:nvPr/>
        </p:nvSpPr>
        <p:spPr>
          <a:xfrm>
            <a:off x="284040" y="692280"/>
            <a:ext cx="8712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　　　作成にあたり準拠すべきルールやフォーマット等は政府</a:t>
            </a: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CIO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ポータルに公開されて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　　　いる。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923" name="図 1" descr=""/>
          <p:cNvPicPr/>
          <p:nvPr/>
        </p:nvPicPr>
        <p:blipFill>
          <a:blip r:embed="rId1"/>
          <a:stretch/>
        </p:blipFill>
        <p:spPr>
          <a:xfrm>
            <a:off x="826920" y="1311120"/>
            <a:ext cx="7477200" cy="478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4" name="図 1" descr=""/>
          <p:cNvPicPr/>
          <p:nvPr/>
        </p:nvPicPr>
        <p:blipFill>
          <a:blip r:embed="rId1"/>
          <a:stretch/>
        </p:blipFill>
        <p:spPr>
          <a:xfrm>
            <a:off x="343080" y="1989000"/>
            <a:ext cx="8458200" cy="2752920"/>
          </a:xfrm>
          <a:prstGeom prst="rect">
            <a:avLst/>
          </a:prstGeom>
          <a:ln w="0">
            <a:noFill/>
          </a:ln>
        </p:spPr>
      </p:pic>
      <p:sp>
        <p:nvSpPr>
          <p:cNvPr id="925" name="スライド番号プレースホルダー 3"/>
          <p:cNvSpPr/>
          <p:nvPr/>
        </p:nvSpPr>
        <p:spPr>
          <a:xfrm>
            <a:off x="8477280" y="6492960"/>
            <a:ext cx="666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7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CA31B-CB2D-402B-B444-D41396A9A435}" type="slidenum">
              <a:rPr b="1" lang="ja-JP" sz="1800" spc="-1" strike="noStrike">
                <a:solidFill>
                  <a:srgbClr val="000000"/>
                </a:solidFill>
                <a:latin typeface="ＭＳ Ｐゴシック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795636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2060"/>
                </a:solidFill>
                <a:latin typeface="メイリオ"/>
              </a:rPr>
              <a:t>推奨データセット作成にあたり準拠すべきルール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7" name="スライド番号プレースホルダー 2"/>
          <p:cNvSpPr/>
          <p:nvPr/>
        </p:nvSpPr>
        <p:spPr>
          <a:xfrm>
            <a:off x="8604360" y="6524640"/>
            <a:ext cx="5047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8" name="正方形/長方形 7"/>
          <p:cNvSpPr/>
          <p:nvPr/>
        </p:nvSpPr>
        <p:spPr>
          <a:xfrm>
            <a:off x="539640" y="936720"/>
            <a:ext cx="83534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推奨データセットごとに、項目を公開する際のデータ形式等がデータ項目定義書に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定められている。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9" name="正方形/長方形 8"/>
          <p:cNvSpPr/>
          <p:nvPr/>
        </p:nvSpPr>
        <p:spPr>
          <a:xfrm>
            <a:off x="380880" y="4741920"/>
            <a:ext cx="8583840" cy="34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出典：平成</a:t>
            </a:r>
            <a:r>
              <a:rPr b="0" lang="en-US" sz="1600" spc="-1" strike="noStrike">
                <a:solidFill>
                  <a:srgbClr val="000000"/>
                </a:solidFill>
                <a:latin typeface="ＭＳ Ｐゴシック"/>
              </a:rPr>
              <a:t>30</a:t>
            </a: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年</a:t>
            </a:r>
            <a:r>
              <a:rPr b="0" lang="en-US" sz="1600" spc="-1" strike="noStrike">
                <a:solidFill>
                  <a:srgbClr val="000000"/>
                </a:solidFill>
                <a:latin typeface="ＭＳ Ｐゴシック"/>
              </a:rPr>
              <a:t>12</a:t>
            </a: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月３日　内閣官房情報通信技術（</a:t>
            </a:r>
            <a:r>
              <a:rPr b="0" lang="en-US" sz="1600" spc="-1" strike="noStrike">
                <a:solidFill>
                  <a:srgbClr val="000000"/>
                </a:solidFill>
                <a:latin typeface="ＭＳ Ｐゴシック"/>
              </a:rPr>
              <a:t>IT</a:t>
            </a: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）総合戦略室「データ項目定義書（ベータ版）」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0" name="テキスト ボックス 10"/>
          <p:cNvSpPr/>
          <p:nvPr/>
        </p:nvSpPr>
        <p:spPr>
          <a:xfrm>
            <a:off x="3730680" y="1282680"/>
            <a:ext cx="5089320" cy="671400"/>
          </a:xfrm>
          <a:prstGeom prst="wedgeRoundRectCallout">
            <a:avLst>
              <a:gd name="adj1" fmla="val -82532"/>
              <a:gd name="adj2" fmla="val 80912"/>
              <a:gd name="adj3" fmla="val 16667"/>
            </a:avLst>
          </a:prstGeom>
          <a:solidFill>
            <a:srgbClr val="ffffff"/>
          </a:solidFill>
          <a:ln w="19080">
            <a:solidFill>
              <a:srgbClr val="a81637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区分（必須・任意等）を参考に保有している情報から公開を進めることを推奨する。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1" name="正方形/長方形 11"/>
          <p:cNvSpPr/>
          <p:nvPr/>
        </p:nvSpPr>
        <p:spPr>
          <a:xfrm>
            <a:off x="395280" y="5059440"/>
            <a:ext cx="8361360" cy="17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【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凡例</a:t>
            </a: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】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◎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　　：データセットの核となる必須項目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〇　　：該当推奨データセットを活用したアプリの基本機能を簡単に実現するために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　　　　公開することが望ましい項目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空白 ：該当推奨データセットを活用したアプリの利便性の高い付加価値サービスを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         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実現するために公開することが望ましい項目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2" name="正方形/長方形 15"/>
          <p:cNvSpPr/>
          <p:nvPr/>
        </p:nvSpPr>
        <p:spPr>
          <a:xfrm>
            <a:off x="380880" y="1484280"/>
            <a:ext cx="85122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10.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指定緊急避難場所一覧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スライド番号プレースホルダー 3"/>
          <p:cNvSpPr/>
          <p:nvPr/>
        </p:nvSpPr>
        <p:spPr>
          <a:xfrm>
            <a:off x="8477280" y="6492960"/>
            <a:ext cx="666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7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8F678-94F7-45DF-8AC7-C08D223412FC}" type="slidenum">
              <a:rPr b="1" lang="ja-JP" sz="1800" spc="-1" strike="noStrike">
                <a:solidFill>
                  <a:srgbClr val="000000"/>
                </a:solidFill>
                <a:latin typeface="ＭＳ Ｐゴシック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795636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2060"/>
                </a:solidFill>
                <a:latin typeface="メイリオ"/>
              </a:rPr>
              <a:t>オープンデータを継続していくための取組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35" name="スライド番号プレースホルダー 2"/>
          <p:cNvSpPr/>
          <p:nvPr/>
        </p:nvSpPr>
        <p:spPr>
          <a:xfrm>
            <a:off x="8604360" y="6524640"/>
            <a:ext cx="5047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6" name="正方形/長方形 28"/>
          <p:cNvSpPr/>
          <p:nvPr/>
        </p:nvSpPr>
        <p:spPr>
          <a:xfrm>
            <a:off x="395280" y="4292640"/>
            <a:ext cx="5329080" cy="433440"/>
          </a:xfrm>
          <a:prstGeom prst="rect">
            <a:avLst/>
          </a:prstGeom>
          <a:solidFill>
            <a:srgbClr val="127ca4"/>
          </a:solidFill>
          <a:ln w="12600">
            <a:solidFill>
              <a:srgbClr val="127ca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オープンデータを継続していくための取り組み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7" name="額縁 50"/>
          <p:cNvSpPr/>
          <p:nvPr/>
        </p:nvSpPr>
        <p:spPr>
          <a:xfrm>
            <a:off x="900000" y="5589720"/>
            <a:ext cx="5256360" cy="576000"/>
          </a:xfrm>
          <a:prstGeom prst="bevel">
            <a:avLst>
              <a:gd name="adj" fmla="val 7694"/>
            </a:avLst>
          </a:prstGeom>
          <a:solidFill>
            <a:srgbClr val="f6a3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(2) </a:t>
            </a:r>
            <a:r>
              <a:rPr b="0" lang="ja-JP" sz="1800" spc="-1" strike="noStrike">
                <a:solidFill>
                  <a:srgbClr val="000000"/>
                </a:solidFill>
                <a:latin typeface="Lucida Sans Unicode"/>
              </a:rPr>
              <a:t>オープンデータを拡充する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8" name="額縁 51"/>
          <p:cNvSpPr/>
          <p:nvPr/>
        </p:nvSpPr>
        <p:spPr>
          <a:xfrm>
            <a:off x="900000" y="4869000"/>
            <a:ext cx="5256360" cy="576000"/>
          </a:xfrm>
          <a:prstGeom prst="bevel">
            <a:avLst>
              <a:gd name="adj" fmla="val 7694"/>
            </a:avLst>
          </a:prstGeom>
          <a:solidFill>
            <a:srgbClr val="f6a3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(1) </a:t>
            </a:r>
            <a:r>
              <a:rPr b="0" lang="ja-JP" sz="1800" spc="-1" strike="noStrike">
                <a:solidFill>
                  <a:srgbClr val="000000"/>
                </a:solidFill>
                <a:latin typeface="Lucida Sans Unicode"/>
              </a:rPr>
              <a:t>公開したオープンデータを更新する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9" name="テキスト ボックス 6"/>
          <p:cNvSpPr/>
          <p:nvPr/>
        </p:nvSpPr>
        <p:spPr>
          <a:xfrm>
            <a:off x="669960" y="6237360"/>
            <a:ext cx="8096040" cy="36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出展：オープンデータ化支援研修（総務省）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940" name="図 1" descr=""/>
          <p:cNvPicPr/>
          <p:nvPr/>
        </p:nvPicPr>
        <p:blipFill>
          <a:blip r:embed="rId1"/>
          <a:stretch/>
        </p:blipFill>
        <p:spPr>
          <a:xfrm>
            <a:off x="357120" y="892080"/>
            <a:ext cx="8429760" cy="32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スライド番号プレースホルダー 3"/>
          <p:cNvSpPr/>
          <p:nvPr/>
        </p:nvSpPr>
        <p:spPr>
          <a:xfrm>
            <a:off x="8477280" y="6492960"/>
            <a:ext cx="666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7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03DDD-A8E2-44FD-ADF9-8E31FF6E9F5B}" type="slidenum">
              <a:rPr b="1" lang="ja-JP" sz="1800" spc="-1" strike="noStrike">
                <a:solidFill>
                  <a:srgbClr val="000000"/>
                </a:solidFill>
                <a:latin typeface="ＭＳ Ｐゴシック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795636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2060"/>
                </a:solidFill>
                <a:latin typeface="メイリオ"/>
              </a:rPr>
              <a:t>オープンデータの更新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43" name="スライド番号プレースホルダー 2"/>
          <p:cNvSpPr/>
          <p:nvPr/>
        </p:nvSpPr>
        <p:spPr>
          <a:xfrm>
            <a:off x="8604360" y="6524640"/>
            <a:ext cx="5047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4" name="正方形/長方形 67"/>
          <p:cNvSpPr/>
          <p:nvPr/>
        </p:nvSpPr>
        <p:spPr>
          <a:xfrm>
            <a:off x="284040" y="1484280"/>
            <a:ext cx="2475000" cy="360360"/>
          </a:xfrm>
          <a:prstGeom prst="rect">
            <a:avLst/>
          </a:prstGeom>
          <a:solidFill>
            <a:srgbClr val="127ca4"/>
          </a:solidFill>
          <a:ln w="12600">
            <a:solidFill>
              <a:srgbClr val="127ca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更新方法の例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5" name="正方形/長方形 68"/>
          <p:cNvSpPr/>
          <p:nvPr/>
        </p:nvSpPr>
        <p:spPr>
          <a:xfrm>
            <a:off x="324000" y="907920"/>
            <a:ext cx="80596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データの内容に応じて、更新方法や更新タイミングを決める。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aphicFrame>
        <p:nvGraphicFramePr>
          <p:cNvPr id="946" name=""/>
          <p:cNvGraphicFramePr/>
          <p:nvPr/>
        </p:nvGraphicFramePr>
        <p:xfrm>
          <a:off x="324000" y="1989000"/>
          <a:ext cx="8569080" cy="1140120"/>
        </p:xfrm>
        <a:graphic>
          <a:graphicData uri="http://schemas.openxmlformats.org/drawingml/2006/table">
            <a:tbl>
              <a:tblPr/>
              <a:tblGrid>
                <a:gridCol w="5373360"/>
                <a:gridCol w="319572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更新方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27ca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データの例（推奨データセット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27ca4"/>
                    </a:solidFill>
                  </a:tcPr>
                </a:tc>
              </a:tr>
              <a:tr h="40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オープンデータの内容を、新しいものに置き換え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01.AED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設置箇所一覧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7e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新しくオープンデータを追加してい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11.</a:t>
                      </a: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地域・年齢別人口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0"/>
                    </a:solidFill>
                  </a:tcPr>
                </a:tc>
              </a:tr>
            </a:tbl>
          </a:graphicData>
        </a:graphic>
      </p:graphicFrame>
      <p:sp>
        <p:nvSpPr>
          <p:cNvPr id="947" name="正方形/長方形 70"/>
          <p:cNvSpPr/>
          <p:nvPr/>
        </p:nvSpPr>
        <p:spPr>
          <a:xfrm>
            <a:off x="284040" y="3789360"/>
            <a:ext cx="2475000" cy="360360"/>
          </a:xfrm>
          <a:prstGeom prst="rect">
            <a:avLst/>
          </a:prstGeom>
          <a:solidFill>
            <a:srgbClr val="127ca4"/>
          </a:solidFill>
          <a:ln w="12600">
            <a:solidFill>
              <a:srgbClr val="127ca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更新タイミングの例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graphicFrame>
        <p:nvGraphicFramePr>
          <p:cNvPr id="948" name=""/>
          <p:cNvGraphicFramePr/>
          <p:nvPr/>
        </p:nvGraphicFramePr>
        <p:xfrm>
          <a:off x="324000" y="4292640"/>
          <a:ext cx="8569080" cy="1654200"/>
        </p:xfrm>
        <a:graphic>
          <a:graphicData uri="http://schemas.openxmlformats.org/drawingml/2006/table">
            <a:tbl>
              <a:tblPr/>
              <a:tblGrid>
                <a:gridCol w="5373360"/>
                <a:gridCol w="319572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更新タイミン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27ca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データの例（推奨データセット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27ca4"/>
                    </a:solidFill>
                  </a:tcPr>
                </a:tc>
              </a:tr>
              <a:tr h="64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随時変更が発生す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⇒</a:t>
                      </a: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団体内でオープンデータを更新する周期を決め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06.</a:t>
                      </a: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イベント一覧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7e0"/>
                    </a:solidFill>
                  </a:tcPr>
                </a:tc>
              </a:tr>
              <a:tr h="64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元のデータの更新に合わせて、定期的にオープンデータの変更や追加を行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11.</a:t>
                      </a: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地域・年齢別人口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0"/>
                    </a:solidFill>
                  </a:tcPr>
                </a:tc>
              </a:tr>
            </a:tbl>
          </a:graphicData>
        </a:graphic>
      </p:graphicFrame>
      <p:sp>
        <p:nvSpPr>
          <p:cNvPr id="949" name="テキスト ボックス 6"/>
          <p:cNvSpPr/>
          <p:nvPr/>
        </p:nvSpPr>
        <p:spPr>
          <a:xfrm>
            <a:off x="669960" y="6159600"/>
            <a:ext cx="8096040" cy="36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出展：オープンデータ化支援研修（総務省）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スライド番号プレースホルダー 3"/>
          <p:cNvSpPr/>
          <p:nvPr/>
        </p:nvSpPr>
        <p:spPr>
          <a:xfrm>
            <a:off x="8477280" y="6492960"/>
            <a:ext cx="666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7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6CFAE-C413-4794-ACF7-491A9C2663D6}" type="slidenum">
              <a:rPr b="1" lang="ja-JP" sz="1800" spc="-1" strike="noStrike">
                <a:solidFill>
                  <a:srgbClr val="000000"/>
                </a:solidFill>
                <a:latin typeface="ＭＳ Ｐゴシック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795636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2060"/>
                </a:solidFill>
                <a:latin typeface="メイリオ"/>
              </a:rPr>
              <a:t>情報（データ）のあり方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52" name="Rectangle 186"/>
          <p:cNvSpPr/>
          <p:nvPr/>
        </p:nvSpPr>
        <p:spPr>
          <a:xfrm>
            <a:off x="684360" y="2060640"/>
            <a:ext cx="8064360" cy="31258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262080" indent="-262080">
              <a:lnSpc>
                <a:spcPct val="100000"/>
              </a:lnSpc>
              <a:spcBef>
                <a:spcPts val="601"/>
              </a:spcBef>
              <a:buClr>
                <a:srgbClr val="00b05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流山市情報公開条例第２２条（情報公開の総合的な推進）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262080" indent="-262080">
              <a:lnSpc>
                <a:spcPct val="100000"/>
              </a:lnSpc>
              <a:spcBef>
                <a:spcPts val="601"/>
              </a:spcBef>
              <a:buClr>
                <a:srgbClr val="e689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262080" indent="-262080">
              <a:lnSpc>
                <a:spcPct val="100000"/>
              </a:lnSpc>
              <a:spcBef>
                <a:spcPts val="601"/>
              </a:spcBef>
              <a:buClr>
                <a:srgbClr val="00b05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流山市情報公開条例第２７条（情報の提供）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262080" indent="-262080">
              <a:lnSpc>
                <a:spcPct val="100000"/>
              </a:lnSpc>
              <a:spcBef>
                <a:spcPts val="601"/>
              </a:spcBef>
              <a:buClr>
                <a:srgbClr val="e689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262080" indent="-262080">
              <a:lnSpc>
                <a:spcPct val="100000"/>
              </a:lnSpc>
              <a:spcBef>
                <a:spcPts val="601"/>
              </a:spcBef>
              <a:buClr>
                <a:srgbClr val="00b05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流山市自治基本条例第８条（情報共有）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3" name="Rectangle 186"/>
          <p:cNvSpPr/>
          <p:nvPr/>
        </p:nvSpPr>
        <p:spPr>
          <a:xfrm>
            <a:off x="684360" y="1197000"/>
            <a:ext cx="8064360" cy="86364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情報公開・情報提供→情報共有・情報活用へ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スライド番号プレースホルダー 3"/>
          <p:cNvSpPr/>
          <p:nvPr/>
        </p:nvSpPr>
        <p:spPr>
          <a:xfrm>
            <a:off x="8477280" y="6492960"/>
            <a:ext cx="666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7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E0796-AAE0-485F-ADF4-AE1BBC726EFC}" type="slidenum">
              <a:rPr b="1" lang="ja-JP" sz="1800" spc="-1" strike="noStrike">
                <a:solidFill>
                  <a:srgbClr val="000000"/>
                </a:solidFill>
                <a:latin typeface="ＭＳ Ｐゴシック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795636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2060"/>
                </a:solidFill>
                <a:latin typeface="メイリオ"/>
              </a:rPr>
              <a:t>オープンデータの循環図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graphicFrame>
        <p:nvGraphicFramePr>
          <p:cNvPr id="956" name=""/>
          <p:cNvGraphicFramePr/>
          <p:nvPr/>
        </p:nvGraphicFramePr>
        <p:xfrm>
          <a:off x="468360" y="1098720"/>
          <a:ext cx="8207280" cy="4851360"/>
        </p:xfrm>
        <a:graphic>
          <a:graphicData uri="http://schemas.openxmlformats.org/drawingml/2006/table">
            <a:tbl>
              <a:tblPr/>
              <a:tblGrid>
                <a:gridCol w="4103640"/>
                <a:gridCol w="4103640"/>
              </a:tblGrid>
              <a:tr h="2263680">
                <a:tc>
                  <a:txBody>
                    <a:bodyPr lIns="0" rIns="0" tIns="360" bIns="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　協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　社会課題を解決するためのサービ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　を開発し、実装す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a1493"/>
                    </a:solidFill>
                  </a:tcPr>
                </a:tc>
                <a:tc>
                  <a:txBody>
                    <a:bodyPr lIns="0" rIns="0" tIns="360" bIns="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　環境整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　活用を前提とした標準化された形式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　内容のデータを生成す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a1493"/>
                    </a:solidFill>
                  </a:tcPr>
                </a:tc>
              </a:tr>
              <a:tr h="2587680">
                <a:tc>
                  <a:txBody>
                    <a:bodyPr lIns="0" rIns="0" tIns="360" bIns="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　参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　社会課題探索の中で、データの価値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　を発見す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c1f7"/>
                    </a:solidFill>
                  </a:tcPr>
                </a:tc>
                <a:tc>
                  <a:txBody>
                    <a:bodyPr lIns="0" rIns="0" tIns="360" bIns="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　透明性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　データを権利処理した形で一元的に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　提供す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c1f7"/>
                    </a:solidFill>
                  </a:tcPr>
                </a:tc>
              </a:tr>
            </a:tbl>
          </a:graphicData>
        </a:graphic>
      </p:graphicFrame>
      <p:sp>
        <p:nvSpPr>
          <p:cNvPr id="957" name="左カーブ矢印 11"/>
          <p:cNvSpPr/>
          <p:nvPr/>
        </p:nvSpPr>
        <p:spPr>
          <a:xfrm rot="5400000">
            <a:off x="4244040" y="3234240"/>
            <a:ext cx="493560" cy="882720"/>
          </a:xfrm>
          <a:custGeom>
            <a:avLst/>
            <a:gdLst>
              <a:gd name="textAreaLeft" fmla="*/ 65880 w 493560"/>
              <a:gd name="textAreaRight" fmla="*/ 427680 w 493560"/>
              <a:gd name="textAreaTop" fmla="*/ 174240 h 882720"/>
              <a:gd name="textAreaBottom" fmla="*/ 646560 h 88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535" stAng="-5400000" swAng="5400000"/>
                <a:lnTo>
                  <a:pt x="21600" y="11556"/>
                </a:lnTo>
                <a:arcTo wR="21600" hR="8535" stAng="0" swAng="3410179"/>
                <a:lnTo>
                  <a:pt x="5400" y="21329"/>
                </a:lnTo>
                <a:lnTo>
                  <a:pt x="0" y="18580"/>
                </a:lnTo>
                <a:lnTo>
                  <a:pt x="5400" y="15288"/>
                </a:lnTo>
                <a:lnTo>
                  <a:pt x="5400" y="16798"/>
                </a:lnTo>
                <a:arcTo wR="21600" hR="8535" stAng="3410179" swAng="-3166330"/>
                <a:lnTo>
                  <a:pt x="21259" y="10045"/>
                </a:lnTo>
                <a:arcTo wR="21600" hR="8535" stAng="-243850" swAng="-5156150"/>
                <a:close/>
              </a:path>
              <a:path fill="darkenLess" w="21600" h="21600">
                <a:moveTo>
                  <a:pt x="0" y="0"/>
                </a:moveTo>
                <a:arcTo wR="21600" hR="8535" stAng="-5400000" swAng="5400000"/>
                <a:lnTo>
                  <a:pt x="21600" y="11556"/>
                </a:lnTo>
                <a:arcTo wR="21600" hR="8535" stAng="0" swAng="-243850"/>
                <a:lnTo>
                  <a:pt x="21259" y="10045"/>
                </a:lnTo>
                <a:arcTo wR="21600" hR="8535" stAng="-243850" swAng="-5156150"/>
                <a:close/>
              </a:path>
            </a:pathLst>
          </a:custGeom>
          <a:solidFill>
            <a:srgbClr val="ff0000"/>
          </a:solidFill>
          <a:ln w="12600">
            <a:solidFill>
              <a:srgbClr val="a81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8" name="左カーブ矢印 13"/>
          <p:cNvSpPr/>
          <p:nvPr/>
        </p:nvSpPr>
        <p:spPr>
          <a:xfrm rot="16200000">
            <a:off x="4300200" y="2571120"/>
            <a:ext cx="543240" cy="1044720"/>
          </a:xfrm>
          <a:custGeom>
            <a:avLst/>
            <a:gdLst>
              <a:gd name="textAreaLeft" fmla="*/ 72720 w 543240"/>
              <a:gd name="textAreaRight" fmla="*/ 470520 w 543240"/>
              <a:gd name="textAreaTop" fmla="*/ 210240 h 1044720"/>
              <a:gd name="textAreaBottom" fmla="*/ 766800 h 104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695" stAng="-5400000" swAng="5400000"/>
                <a:lnTo>
                  <a:pt x="21600" y="11502"/>
                </a:lnTo>
                <a:arcTo wR="21600" hR="8695" stAng="0" swAng="3439399"/>
                <a:lnTo>
                  <a:pt x="5400" y="21324"/>
                </a:lnTo>
                <a:lnTo>
                  <a:pt x="0" y="18794"/>
                </a:lnTo>
                <a:lnTo>
                  <a:pt x="5400" y="15711"/>
                </a:lnTo>
                <a:lnTo>
                  <a:pt x="5400" y="17114"/>
                </a:lnTo>
                <a:arcTo wR="21600" hR="8695" stAng="3439399" swAng="-3213383"/>
                <a:lnTo>
                  <a:pt x="21317" y="10099"/>
                </a:lnTo>
                <a:arcTo wR="21600" hR="8695" stAng="-226016" swAng="-5173984"/>
                <a:close/>
              </a:path>
              <a:path fill="darkenLess" w="21600" h="21600">
                <a:moveTo>
                  <a:pt x="0" y="0"/>
                </a:moveTo>
                <a:arcTo wR="21600" hR="8695" stAng="-5400000" swAng="5400000"/>
                <a:lnTo>
                  <a:pt x="21600" y="11502"/>
                </a:lnTo>
                <a:arcTo wR="21600" hR="8695" stAng="0" swAng="-226016"/>
                <a:lnTo>
                  <a:pt x="21317" y="10099"/>
                </a:lnTo>
                <a:arcTo wR="21600" hR="8695" stAng="-226016" swAng="-5173984"/>
                <a:close/>
              </a:path>
            </a:pathLst>
          </a:custGeom>
          <a:solidFill>
            <a:srgbClr val="ff0000"/>
          </a:solidFill>
          <a:ln w="12600">
            <a:solidFill>
              <a:srgbClr val="a81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スライド番号プレースホルダー 3"/>
          <p:cNvSpPr/>
          <p:nvPr/>
        </p:nvSpPr>
        <p:spPr>
          <a:xfrm>
            <a:off x="8477280" y="6492960"/>
            <a:ext cx="666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7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F4914-9D31-4F51-9F8D-CC9C38758C6B}" type="slidenum">
              <a:rPr b="1" lang="ja-JP" sz="1800" spc="-1" strike="noStrike">
                <a:solidFill>
                  <a:srgbClr val="000000"/>
                </a:solidFill>
                <a:latin typeface="ＭＳ Ｐゴシック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40" name="サブタイトル 2"/>
          <p:cNvSpPr/>
          <p:nvPr/>
        </p:nvSpPr>
        <p:spPr>
          <a:xfrm>
            <a:off x="468360" y="3875040"/>
            <a:ext cx="8280360" cy="895320"/>
          </a:xfrm>
          <a:prstGeom prst="rect">
            <a:avLst/>
          </a:prstGeom>
          <a:solidFill>
            <a:srgbClr val="cbdd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Ｐゴシック"/>
              </a:rPr>
              <a:t>平成２４年１０月１日ホームページリニューアルが契機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Ｐゴシック"/>
              </a:rPr>
              <a:t>市議会と共にトライアル（試行）を開始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41" name="タイトル 2"/>
          <p:cNvSpPr/>
          <p:nvPr/>
        </p:nvSpPr>
        <p:spPr>
          <a:xfrm>
            <a:off x="468360" y="189000"/>
            <a:ext cx="79563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2060"/>
                </a:solidFill>
                <a:latin typeface="メイリオ"/>
              </a:rPr>
              <a:t>オープンデータを始めたきっかけ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42" name="サブタイトル 2"/>
          <p:cNvSpPr/>
          <p:nvPr/>
        </p:nvSpPr>
        <p:spPr>
          <a:xfrm>
            <a:off x="468360" y="4738680"/>
            <a:ext cx="8280360" cy="1695600"/>
          </a:xfrm>
          <a:prstGeom prst="rect">
            <a:avLst/>
          </a:prstGeom>
          <a:solidFill>
            <a:srgbClr val="e9f0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Ｐゴシック"/>
              </a:rPr>
              <a:t>ホームページ等で既に掲載しているデータを対象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Ｐゴシック"/>
              </a:rPr>
              <a:t>　公共施設所在地、文化財、投票所所在地、</a:t>
            </a: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AED</a:t>
            </a:r>
            <a:r>
              <a:rPr b="1" lang="ja-JP" sz="2000" spc="-1" strike="noStrike">
                <a:solidFill>
                  <a:srgbClr val="000000"/>
                </a:solidFill>
                <a:latin typeface="ＭＳ Ｐゴシック"/>
              </a:rPr>
              <a:t>設置場所、避難場所、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Ｐゴシック"/>
              </a:rPr>
              <a:t>　駐輪場（自転車駐車場）、ごみの収集曜日、ごみの分別・処分方法、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Ｐゴシック"/>
              </a:rPr>
              <a:t>　年齢別・男女別人口、町丁字別人口　　等　　２５種類のデータ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843" name="図 1" descr=""/>
          <p:cNvPicPr/>
          <p:nvPr/>
        </p:nvPicPr>
        <p:blipFill>
          <a:blip r:embed="rId1"/>
          <a:stretch/>
        </p:blipFill>
        <p:spPr>
          <a:xfrm>
            <a:off x="179280" y="1111320"/>
            <a:ext cx="8820360" cy="25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スライド番号プレースホルダー 3"/>
          <p:cNvSpPr/>
          <p:nvPr/>
        </p:nvSpPr>
        <p:spPr>
          <a:xfrm>
            <a:off x="8477280" y="6492960"/>
            <a:ext cx="666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7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8E037-0358-4B89-93A6-4CA3779DC692}" type="slidenum">
              <a:rPr b="1" lang="ja-JP" sz="1800" spc="-1" strike="noStrike">
                <a:solidFill>
                  <a:srgbClr val="000000"/>
                </a:solidFill>
                <a:latin typeface="ＭＳ Ｐゴシック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628560" y="836640"/>
            <a:ext cx="788688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ＭＳ Ｐゴシック"/>
              </a:rPr>
              <a:t>原則情報は公開し活用してもらう！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61" name=""/>
          <p:cNvSpPr txBox="1"/>
          <p:nvPr/>
        </p:nvSpPr>
        <p:spPr>
          <a:xfrm>
            <a:off x="645840" y="1832040"/>
            <a:ext cx="7886520" cy="344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ＭＳ Ｐゴシック"/>
              </a:rPr>
              <a:t>流山市個人情報保護条例第２条１項（定義）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ＭＳ Ｐゴシック"/>
              </a:rPr>
              <a:t>　→特定の個人が識別され、又は識別され得るもの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 u="sng">
                <a:solidFill>
                  <a:srgbClr val="ff0000"/>
                </a:solidFill>
                <a:uFillTx/>
                <a:latin typeface="ＭＳ Ｐゴシック"/>
              </a:rPr>
              <a:t>つまり特定の個人が識別されなければ原則情報を公開する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700" spc="-1" strike="noStrike">
                <a:solidFill>
                  <a:srgbClr val="ff0000"/>
                </a:solidFill>
                <a:latin typeface="ＭＳ Ｐゴシック"/>
              </a:rPr>
              <a:t>公開した情報をどんどん活用してもらう！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62" name="下矢印 3"/>
          <p:cNvSpPr/>
          <p:nvPr/>
        </p:nvSpPr>
        <p:spPr>
          <a:xfrm>
            <a:off x="3755880" y="3652920"/>
            <a:ext cx="960480" cy="6397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01538"/>
          </a:solidFill>
          <a:ln w="12600">
            <a:solidFill>
              <a:srgbClr val="a8163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スライド番号プレースホルダー 3"/>
          <p:cNvSpPr/>
          <p:nvPr/>
        </p:nvSpPr>
        <p:spPr>
          <a:xfrm>
            <a:off x="8477280" y="6492960"/>
            <a:ext cx="666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7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408B8-DBCC-4E64-915D-BA9490514758}" type="slidenum">
              <a:rPr b="1" lang="ja-JP" sz="1800" spc="-1" strike="noStrike">
                <a:solidFill>
                  <a:srgbClr val="000000"/>
                </a:solidFill>
                <a:latin typeface="ＭＳ Ｐゴシック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64" name=""/>
          <p:cNvSpPr txBox="1"/>
          <p:nvPr/>
        </p:nvSpPr>
        <p:spPr>
          <a:xfrm>
            <a:off x="645840" y="1616040"/>
            <a:ext cx="7886520" cy="109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BIZ UDPゴシック"/>
                <a:ea typeface="BIZ UDPゴシック"/>
              </a:rPr>
              <a:t>ご清聴ありがとうございました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65" name="コンテンツ プレースホルダー 2"/>
          <p:cNvSpPr/>
          <p:nvPr/>
        </p:nvSpPr>
        <p:spPr>
          <a:xfrm>
            <a:off x="3051000" y="3141720"/>
            <a:ext cx="598500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ＭＳ Ｐゴシック"/>
              </a:rPr>
              <a:t>流山市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ＭＳ Ｐゴシック"/>
              </a:rPr>
              <a:t>総合政策部　情報政策・改革改善課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ＭＳ Ｐゴシック"/>
              </a:rPr>
              <a:t>担当：佐藤　慎一郎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ＭＳ Ｐゴシック"/>
              </a:rPr>
              <a:t>電話番号：</a:t>
            </a:r>
            <a:r>
              <a:rPr b="0" lang="en-US" sz="2200" spc="-1" strike="noStrike">
                <a:solidFill>
                  <a:srgbClr val="000000"/>
                </a:solidFill>
                <a:latin typeface="ＭＳ Ｐゴシック"/>
              </a:rPr>
              <a:t>04-7150-6078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Mail</a:t>
            </a:r>
            <a:r>
              <a:rPr b="0" lang="ja-JP" sz="2200" spc="-1" strike="noStrike">
                <a:solidFill>
                  <a:srgbClr val="000000"/>
                </a:solidFill>
                <a:latin typeface="ＭＳ Ｐゴシック"/>
              </a:rPr>
              <a:t>：</a:t>
            </a: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keieikaikaku@city.nagareyama.lg.jp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スライド番号プレースホルダー 3"/>
          <p:cNvSpPr/>
          <p:nvPr/>
        </p:nvSpPr>
        <p:spPr>
          <a:xfrm>
            <a:off x="8477280" y="6492960"/>
            <a:ext cx="666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7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6C51A-93BD-4D36-A6B2-096F9B0DEB82}" type="slidenum">
              <a:rPr b="1" lang="ja-JP" sz="1800" spc="-1" strike="noStrike">
                <a:solidFill>
                  <a:srgbClr val="000000"/>
                </a:solidFill>
                <a:latin typeface="ＭＳ Ｐゴシック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45" name="サブタイトル 2"/>
          <p:cNvSpPr/>
          <p:nvPr/>
        </p:nvSpPr>
        <p:spPr>
          <a:xfrm>
            <a:off x="468360" y="4357800"/>
            <a:ext cx="8280360" cy="42516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Ｐゴシック"/>
              </a:rPr>
              <a:t>平成２５年度及び平成２６年度にアプリコンテストを開催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46" name="タイトル 2"/>
          <p:cNvSpPr/>
          <p:nvPr/>
        </p:nvSpPr>
        <p:spPr>
          <a:xfrm>
            <a:off x="468360" y="189000"/>
            <a:ext cx="79563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2060"/>
                </a:solidFill>
                <a:latin typeface="メイリオ"/>
              </a:rPr>
              <a:t>アプリコンテストの実施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47" name="サブタイトル 2"/>
          <p:cNvSpPr/>
          <p:nvPr/>
        </p:nvSpPr>
        <p:spPr>
          <a:xfrm>
            <a:off x="468360" y="4753080"/>
            <a:ext cx="8280360" cy="198900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Ｐゴシック"/>
              </a:rPr>
              <a:t>流山のオープンデータを利用した、楽しい・便利なアプリを募集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Ｐゴシック"/>
              </a:rPr>
              <a:t>　・アイデア（市役所）部門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Ｐゴシック"/>
              </a:rPr>
              <a:t>　・アイデア（市議会）部門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Ｐゴシック"/>
              </a:rPr>
              <a:t>　・プログラミング部門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Ｐゴシック"/>
              </a:rPr>
              <a:t>ホームページ公開中のアプリ　　「ゴミ分別・処分方法検索アプリ」等　５件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848" name="図 1" descr=""/>
          <p:cNvPicPr/>
          <p:nvPr/>
        </p:nvPicPr>
        <p:blipFill>
          <a:blip r:embed="rId1"/>
          <a:stretch/>
        </p:blipFill>
        <p:spPr>
          <a:xfrm>
            <a:off x="1104840" y="858960"/>
            <a:ext cx="6934320" cy="33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スライド番号プレースホルダー 3"/>
          <p:cNvSpPr/>
          <p:nvPr/>
        </p:nvSpPr>
        <p:spPr>
          <a:xfrm>
            <a:off x="8477280" y="6492960"/>
            <a:ext cx="666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7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3A27B-8FC7-4318-985E-64B2F4BAE0D6}" type="slidenum">
              <a:rPr b="1" lang="ja-JP" sz="1800" spc="-1" strike="noStrike">
                <a:solidFill>
                  <a:srgbClr val="000000"/>
                </a:solidFill>
                <a:latin typeface="ＭＳ Ｐゴシック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795636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2060"/>
                </a:solidFill>
                <a:latin typeface="メイリオ"/>
              </a:rPr>
              <a:t>オープンデータを活用したサイト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1" name="正方形/長方形 17"/>
          <p:cNvSpPr/>
          <p:nvPr/>
        </p:nvSpPr>
        <p:spPr>
          <a:xfrm>
            <a:off x="971640" y="692280"/>
            <a:ext cx="7272360" cy="6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  <a:ea typeface="Meiryo UI"/>
              </a:rPr>
              <a:t>防災科学技術研究所との共同研究の一環として構築した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  <a:ea typeface="Meiryo UI"/>
              </a:rPr>
              <a:t>地域での各種活動を支援する地域ポータルサイト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2" name="正方形/長方形 17"/>
          <p:cNvSpPr/>
          <p:nvPr/>
        </p:nvSpPr>
        <p:spPr>
          <a:xfrm>
            <a:off x="1419120" y="6303960"/>
            <a:ext cx="6321600" cy="36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  <a:ea typeface="Meiryo UI"/>
              </a:rPr>
              <a:t>http://ecom-plat.jp/nagareyama/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853" name="図 1" descr=""/>
          <p:cNvPicPr/>
          <p:nvPr/>
        </p:nvPicPr>
        <p:blipFill>
          <a:blip r:embed="rId1"/>
          <a:stretch/>
        </p:blipFill>
        <p:spPr>
          <a:xfrm>
            <a:off x="1419120" y="1346040"/>
            <a:ext cx="630576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スライド番号プレースホルダー 3"/>
          <p:cNvSpPr/>
          <p:nvPr/>
        </p:nvSpPr>
        <p:spPr>
          <a:xfrm>
            <a:off x="8477280" y="6492960"/>
            <a:ext cx="666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7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48EC3-9CB8-495A-B1A6-9CCE888FB339}" type="slidenum">
              <a:rPr b="1" lang="ja-JP" sz="1800" spc="-1" strike="noStrike">
                <a:solidFill>
                  <a:srgbClr val="000000"/>
                </a:solidFill>
                <a:latin typeface="ＭＳ Ｐゴシック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795636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2060"/>
                </a:solidFill>
                <a:latin typeface="メイリオ"/>
              </a:rPr>
              <a:t>流山市オープンデータカタログサイト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6" name="正方形/長方形 17"/>
          <p:cNvSpPr/>
          <p:nvPr/>
        </p:nvSpPr>
        <p:spPr>
          <a:xfrm>
            <a:off x="971640" y="692280"/>
            <a:ext cx="72723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  <a:ea typeface="Meiryo UI"/>
              </a:rPr>
              <a:t>オープンデータ掲載件数　３５０件（令和元年１１月１日現在）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7" name="正方形/長方形 17"/>
          <p:cNvSpPr/>
          <p:nvPr/>
        </p:nvSpPr>
        <p:spPr>
          <a:xfrm>
            <a:off x="1428840" y="6453360"/>
            <a:ext cx="6286320" cy="36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  <a:ea typeface="Meiryo UI"/>
              </a:rPr>
              <a:t>https://www.city.nagareyama.chiba.jp/opendata/index.html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858" name="図 1" descr=""/>
          <p:cNvPicPr/>
          <p:nvPr/>
        </p:nvPicPr>
        <p:blipFill>
          <a:blip r:embed="rId1"/>
          <a:stretch/>
        </p:blipFill>
        <p:spPr>
          <a:xfrm>
            <a:off x="1428840" y="1125360"/>
            <a:ext cx="6286320" cy="536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スライド番号プレースホルダー 3"/>
          <p:cNvSpPr/>
          <p:nvPr/>
        </p:nvSpPr>
        <p:spPr>
          <a:xfrm>
            <a:off x="8477280" y="6492960"/>
            <a:ext cx="666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7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79C21-8C39-4511-98C9-1970E7392457}" type="slidenum">
              <a:rPr b="1" lang="ja-JP" sz="1800" spc="-1" strike="noStrike">
                <a:solidFill>
                  <a:srgbClr val="000000"/>
                </a:solidFill>
                <a:latin typeface="ＭＳ Ｐゴシック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795636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2060"/>
                </a:solidFill>
                <a:latin typeface="メイリオ"/>
              </a:rPr>
              <a:t>オープンデータに向けた課題と目標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61" name="Rectangle 186"/>
          <p:cNvSpPr/>
          <p:nvPr/>
        </p:nvSpPr>
        <p:spPr>
          <a:xfrm>
            <a:off x="684360" y="1455840"/>
            <a:ext cx="8064360" cy="1973160"/>
          </a:xfrm>
          <a:prstGeom prst="rect">
            <a:avLst/>
          </a:prstGeom>
          <a:solidFill>
            <a:srgbClr val="ffea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262080" indent="-262080">
              <a:lnSpc>
                <a:spcPct val="100000"/>
              </a:lnSpc>
              <a:spcBef>
                <a:spcPts val="601"/>
              </a:spcBef>
              <a:buClr>
                <a:srgbClr val="9d074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どのようなデータを対象とするか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262080" indent="-262080">
              <a:lnSpc>
                <a:spcPct val="100000"/>
              </a:lnSpc>
              <a:spcBef>
                <a:spcPts val="601"/>
              </a:spcBef>
              <a:buClr>
                <a:srgbClr val="9d074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どのように作成するか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262080" indent="-262080">
              <a:lnSpc>
                <a:spcPct val="100000"/>
              </a:lnSpc>
              <a:spcBef>
                <a:spcPts val="601"/>
              </a:spcBef>
              <a:buClr>
                <a:srgbClr val="9d074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どのように利用状況を把握するか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2" name="Rectangle 186"/>
          <p:cNvSpPr/>
          <p:nvPr/>
        </p:nvSpPr>
        <p:spPr>
          <a:xfrm>
            <a:off x="826920" y="1197000"/>
            <a:ext cx="1071720" cy="57636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課題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3" name="Rectangle 186"/>
          <p:cNvSpPr/>
          <p:nvPr/>
        </p:nvSpPr>
        <p:spPr>
          <a:xfrm>
            <a:off x="684360" y="4121280"/>
            <a:ext cx="8064360" cy="1539720"/>
          </a:xfrm>
          <a:prstGeom prst="rect">
            <a:avLst/>
          </a:prstGeom>
          <a:solidFill>
            <a:srgbClr val="e9f7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262080" indent="-262080">
              <a:lnSpc>
                <a:spcPct val="100000"/>
              </a:lnSpc>
              <a:spcBef>
                <a:spcPts val="601"/>
              </a:spcBef>
              <a:buClr>
                <a:srgbClr val="127ca4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行政だけでなく住民、企業、ＮＰＯ等に使ってもらう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262080" indent="-262080">
              <a:lnSpc>
                <a:spcPct val="100000"/>
              </a:lnSpc>
              <a:spcBef>
                <a:spcPts val="601"/>
              </a:spcBef>
              <a:buClr>
                <a:srgbClr val="127ca4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オープンデータを充実させる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4" name="Rectangle 186"/>
          <p:cNvSpPr/>
          <p:nvPr/>
        </p:nvSpPr>
        <p:spPr>
          <a:xfrm>
            <a:off x="826920" y="3860640"/>
            <a:ext cx="1071720" cy="5763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目標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スライド番号プレースホルダー 3"/>
          <p:cNvSpPr/>
          <p:nvPr/>
        </p:nvSpPr>
        <p:spPr>
          <a:xfrm>
            <a:off x="8477280" y="6492960"/>
            <a:ext cx="666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7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0A53D-4B61-4592-BFCC-28CCC01D1246}" type="slidenum">
              <a:rPr b="1" lang="ja-JP" sz="1800" spc="-1" strike="noStrike">
                <a:solidFill>
                  <a:srgbClr val="000000"/>
                </a:solidFill>
                <a:latin typeface="ＭＳ Ｐゴシック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795636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2060"/>
                </a:solidFill>
                <a:latin typeface="メイリオ"/>
              </a:rPr>
              <a:t>ガイドラインの作成と職員研修の実施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67" name="Rectangle 186"/>
          <p:cNvSpPr/>
          <p:nvPr/>
        </p:nvSpPr>
        <p:spPr>
          <a:xfrm>
            <a:off x="684360" y="1773360"/>
            <a:ext cx="8064360" cy="1501560"/>
          </a:xfrm>
          <a:prstGeom prst="rect">
            <a:avLst/>
          </a:prstGeom>
          <a:solidFill>
            <a:srgbClr val="e8e0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262080" indent="-262080">
              <a:lnSpc>
                <a:spcPct val="100000"/>
              </a:lnSpc>
              <a:spcBef>
                <a:spcPts val="601"/>
              </a:spcBef>
              <a:buClr>
                <a:srgbClr val="5f196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データ公開の必要性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262080" indent="-262080">
              <a:lnSpc>
                <a:spcPct val="100000"/>
              </a:lnSpc>
              <a:spcBef>
                <a:spcPts val="601"/>
              </a:spcBef>
              <a:buClr>
                <a:srgbClr val="5f196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データ公開の目的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262080" indent="-262080">
              <a:lnSpc>
                <a:spcPct val="100000"/>
              </a:lnSpc>
              <a:spcBef>
                <a:spcPts val="601"/>
              </a:spcBef>
              <a:buClr>
                <a:srgbClr val="5f196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データ公開の形式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8" name="Rectangle 186"/>
          <p:cNvSpPr/>
          <p:nvPr/>
        </p:nvSpPr>
        <p:spPr>
          <a:xfrm>
            <a:off x="684360" y="1197000"/>
            <a:ext cx="8064360" cy="5763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オープンデータ推進に関するガイドライン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9" name="Rectangle 186"/>
          <p:cNvSpPr/>
          <p:nvPr/>
        </p:nvSpPr>
        <p:spPr>
          <a:xfrm>
            <a:off x="684360" y="4194000"/>
            <a:ext cx="8064360" cy="2082960"/>
          </a:xfrm>
          <a:prstGeom prst="rect">
            <a:avLst/>
          </a:prstGeom>
          <a:solidFill>
            <a:srgbClr val="c1ff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262080" indent="-262080">
              <a:lnSpc>
                <a:spcPct val="100000"/>
              </a:lnSpc>
              <a:spcBef>
                <a:spcPts val="601"/>
              </a:spcBef>
              <a:buClr>
                <a:srgbClr val="0066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管理職向けにオープンデータの概要、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262080" indent="-262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ＭＳ Ｐゴシック"/>
              </a:rPr>
              <a:t>    </a:t>
            </a:r>
            <a:r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一般職員向けにオープンデータの公開手順（外部講師）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262080" indent="-262080">
              <a:lnSpc>
                <a:spcPct val="100000"/>
              </a:lnSpc>
              <a:spcBef>
                <a:spcPts val="601"/>
              </a:spcBef>
              <a:buClr>
                <a:srgbClr val="0066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データ利活用の重要性（市長講話）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262080" indent="-262080">
              <a:lnSpc>
                <a:spcPct val="100000"/>
              </a:lnSpc>
              <a:spcBef>
                <a:spcPts val="601"/>
              </a:spcBef>
              <a:buClr>
                <a:srgbClr val="0066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データ利活用講習（総務省講師）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0" name="Rectangle 186"/>
          <p:cNvSpPr/>
          <p:nvPr/>
        </p:nvSpPr>
        <p:spPr>
          <a:xfrm>
            <a:off x="684360" y="3645000"/>
            <a:ext cx="8064360" cy="576000"/>
          </a:xfrm>
          <a:prstGeom prst="rect">
            <a:avLst/>
          </a:prstGeom>
          <a:solidFill>
            <a:srgbClr val="66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職員研修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スライド番号プレースホルダー 3"/>
          <p:cNvSpPr/>
          <p:nvPr/>
        </p:nvSpPr>
        <p:spPr>
          <a:xfrm>
            <a:off x="8477280" y="6492960"/>
            <a:ext cx="666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7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DF0AD-775E-49CF-967B-6649037CFF1C}" type="slidenum">
              <a:rPr b="1" lang="ja-JP" sz="1800" spc="-1" strike="noStrike">
                <a:solidFill>
                  <a:srgbClr val="000000"/>
                </a:solidFill>
                <a:latin typeface="ＭＳ Ｐゴシック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795636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2060"/>
                </a:solidFill>
                <a:latin typeface="メイリオ"/>
              </a:rPr>
              <a:t>データの掘り起こし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73" name="テキスト ボックス 6"/>
          <p:cNvSpPr/>
          <p:nvPr/>
        </p:nvSpPr>
        <p:spPr>
          <a:xfrm>
            <a:off x="250920" y="1268280"/>
            <a:ext cx="8713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Ｐゴシック"/>
              </a:rPr>
              <a:t>各所管課で保有しているデータを掘り起こす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4" name="正方形/長方形 20"/>
          <p:cNvSpPr/>
          <p:nvPr/>
        </p:nvSpPr>
        <p:spPr>
          <a:xfrm>
            <a:off x="324000" y="2368440"/>
            <a:ext cx="447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メイリオ"/>
                <a:ea typeface="メイリオ"/>
              </a:rPr>
              <a:t>データの掘り起こしイメージ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graphicFrame>
        <p:nvGraphicFramePr>
          <p:cNvPr id="875" name=""/>
          <p:cNvGraphicFramePr/>
          <p:nvPr/>
        </p:nvGraphicFramePr>
        <p:xfrm>
          <a:off x="108000" y="2728800"/>
          <a:ext cx="8856720" cy="3224160"/>
        </p:xfrm>
        <a:graphic>
          <a:graphicData uri="http://schemas.openxmlformats.org/drawingml/2006/table">
            <a:tbl>
              <a:tblPr/>
              <a:tblGrid>
                <a:gridCol w="1655640"/>
                <a:gridCol w="1728720"/>
                <a:gridCol w="1008360"/>
                <a:gridCol w="1079280"/>
                <a:gridCol w="839880"/>
                <a:gridCol w="888840"/>
                <a:gridCol w="792360"/>
                <a:gridCol w="863640"/>
              </a:tblGrid>
              <a:tr h="8352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6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情報名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88fe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6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管理担当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6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部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88fe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6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データ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6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種類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88fe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6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デー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6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形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88fe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6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分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88fe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6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更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6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頻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88fe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6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他者権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88fe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6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ニー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6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分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88fe2"/>
                    </a:solidFill>
                  </a:tcPr>
                </a:tc>
              </a:tr>
              <a:tr h="4777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○○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予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b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財政調整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b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予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b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CS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b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1M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b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毎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b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b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中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bf4"/>
                    </a:solidFill>
                  </a:tcPr>
                </a:tc>
              </a:tr>
              <a:tr h="4777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△△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スポッ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e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商工振興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e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施設情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e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PD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e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20M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e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71400"/>
                          <a:tab algn="l" pos="1343160"/>
                          <a:tab algn="l" pos="2014560"/>
                          <a:tab algn="l" pos="2685960"/>
                          <a:tab algn="l" pos="3357720"/>
                          <a:tab algn="l" pos="4029120"/>
                          <a:tab algn="l" pos="4700520"/>
                          <a:tab algn="l" pos="5372280"/>
                          <a:tab algn="l" pos="6043680"/>
                          <a:tab algn="l" pos="6715080"/>
                          <a:tab algn="l" pos="7386480"/>
                          <a:tab algn="l" pos="8058240"/>
                          <a:tab algn="l" pos="8729640"/>
                          <a:tab algn="l" pos="9401040"/>
                          <a:tab algn="l" pos="10072800"/>
                          <a:tab algn="l" pos="107442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毎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e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あり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e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efa"/>
                    </a:solidFill>
                  </a:tcPr>
                </a:tc>
              </a:tr>
              <a:tr h="4780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イベント情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b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秘書広報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b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報告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b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71400"/>
                          <a:tab algn="l" pos="1343160"/>
                          <a:tab algn="l" pos="2014560"/>
                          <a:tab algn="l" pos="2685960"/>
                          <a:tab algn="l" pos="3357720"/>
                          <a:tab algn="l" pos="4029120"/>
                          <a:tab algn="l" pos="4700520"/>
                          <a:tab algn="l" pos="5372280"/>
                          <a:tab algn="l" pos="6043680"/>
                          <a:tab algn="l" pos="6715080"/>
                          <a:tab algn="l" pos="7386480"/>
                          <a:tab algn="l" pos="8058240"/>
                          <a:tab algn="l" pos="8729640"/>
                          <a:tab algn="l" pos="9401040"/>
                          <a:tab algn="l" pos="10072800"/>
                          <a:tab algn="l" pos="107442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html,jp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b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71400"/>
                          <a:tab algn="l" pos="1343160"/>
                          <a:tab algn="l" pos="2014560"/>
                          <a:tab algn="l" pos="2685960"/>
                          <a:tab algn="l" pos="3357720"/>
                          <a:tab algn="l" pos="4029120"/>
                          <a:tab algn="l" pos="4700520"/>
                          <a:tab algn="l" pos="5372280"/>
                          <a:tab algn="l" pos="6043680"/>
                          <a:tab algn="l" pos="6715080"/>
                          <a:tab algn="l" pos="7386480"/>
                          <a:tab algn="l" pos="8058240"/>
                          <a:tab algn="l" pos="8729640"/>
                          <a:tab algn="l" pos="9401040"/>
                          <a:tab algn="l" pos="10072800"/>
                          <a:tab algn="l" pos="107442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10M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b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毎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b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あり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b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中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bf4"/>
                    </a:solidFill>
                  </a:tcPr>
                </a:tc>
              </a:tr>
              <a:tr h="4777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●●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設置場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e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防災危機管理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e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71400"/>
                          <a:tab algn="l" pos="1343160"/>
                          <a:tab algn="l" pos="2014560"/>
                          <a:tab algn="l" pos="2685960"/>
                          <a:tab algn="l" pos="3357720"/>
                          <a:tab algn="l" pos="4029120"/>
                          <a:tab algn="l" pos="4700520"/>
                          <a:tab algn="l" pos="5372280"/>
                          <a:tab algn="l" pos="6043680"/>
                          <a:tab algn="l" pos="6715080"/>
                          <a:tab algn="l" pos="7386480"/>
                          <a:tab algn="l" pos="8058240"/>
                          <a:tab algn="l" pos="8729640"/>
                          <a:tab algn="l" pos="9401040"/>
                          <a:tab algn="l" pos="10072800"/>
                          <a:tab algn="l" pos="107442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施設情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e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紙（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A4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e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2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e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71400"/>
                          <a:tab algn="l" pos="1343160"/>
                          <a:tab algn="l" pos="2014560"/>
                          <a:tab algn="l" pos="2685960"/>
                          <a:tab algn="l" pos="3357720"/>
                          <a:tab algn="l" pos="4029120"/>
                          <a:tab algn="l" pos="4700520"/>
                          <a:tab algn="l" pos="5372280"/>
                          <a:tab algn="l" pos="6043680"/>
                          <a:tab algn="l" pos="6715080"/>
                          <a:tab algn="l" pos="7386480"/>
                          <a:tab algn="l" pos="8058240"/>
                          <a:tab algn="l" pos="8729640"/>
                          <a:tab algn="l" pos="9401040"/>
                          <a:tab algn="l" pos="10072800"/>
                          <a:tab algn="l" pos="107442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毎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e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e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efa"/>
                    </a:solidFill>
                  </a:tcPr>
                </a:tc>
              </a:tr>
              <a:tr h="4777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▲▲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統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b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市民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b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統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b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xl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b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4M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b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71400"/>
                          <a:tab algn="l" pos="1343160"/>
                          <a:tab algn="l" pos="2014560"/>
                          <a:tab algn="l" pos="2685960"/>
                          <a:tab algn="l" pos="3357720"/>
                          <a:tab algn="l" pos="4029120"/>
                          <a:tab algn="l" pos="4700520"/>
                          <a:tab algn="l" pos="5372280"/>
                          <a:tab algn="l" pos="6043680"/>
                          <a:tab algn="l" pos="6715080"/>
                          <a:tab algn="l" pos="7386480"/>
                          <a:tab algn="l" pos="8058240"/>
                          <a:tab algn="l" pos="8729640"/>
                          <a:tab algn="l" pos="9401040"/>
                          <a:tab algn="l" pos="10072800"/>
                          <a:tab algn="l" pos="107442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四半期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b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b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中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b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スライド番号プレースホルダー 3"/>
          <p:cNvSpPr/>
          <p:nvPr/>
        </p:nvSpPr>
        <p:spPr>
          <a:xfrm>
            <a:off x="8477280" y="6492960"/>
            <a:ext cx="666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7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4273D-518F-4D08-9D76-0FE8FD98DAE6}" type="slidenum">
              <a:rPr b="1" lang="ja-JP" sz="1800" spc="-1" strike="noStrike">
                <a:solidFill>
                  <a:srgbClr val="000000"/>
                </a:solidFill>
                <a:latin typeface="ＭＳ Ｐゴシック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795636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2060"/>
                </a:solidFill>
                <a:latin typeface="メイリオ"/>
              </a:rPr>
              <a:t>データ掘り起こしの着目点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78" name="Rectangle 186"/>
          <p:cNvSpPr/>
          <p:nvPr/>
        </p:nvSpPr>
        <p:spPr>
          <a:xfrm>
            <a:off x="684360" y="836640"/>
            <a:ext cx="8064360" cy="44924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262080" indent="-262080">
              <a:lnSpc>
                <a:spcPct val="100000"/>
              </a:lnSpc>
              <a:spcBef>
                <a:spcPts val="601"/>
              </a:spcBef>
              <a:buClr>
                <a:srgbClr val="e689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国や県へ報告したデータ　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262080" indent="-262080">
              <a:lnSpc>
                <a:spcPct val="100000"/>
              </a:lnSpc>
              <a:spcBef>
                <a:spcPts val="601"/>
              </a:spcBef>
              <a:buClr>
                <a:srgbClr val="e689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エクセルを利用しているデータ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262080" indent="-262080">
              <a:lnSpc>
                <a:spcPct val="100000"/>
              </a:lnSpc>
              <a:spcBef>
                <a:spcPts val="601"/>
              </a:spcBef>
              <a:buClr>
                <a:srgbClr val="e689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決算審査時に作成したデータ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262080" indent="-262080">
              <a:lnSpc>
                <a:spcPct val="100000"/>
              </a:lnSpc>
              <a:spcBef>
                <a:spcPts val="601"/>
              </a:spcBef>
              <a:buClr>
                <a:srgbClr val="e689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情報システムから抽出したデータ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262080" indent="-262080">
              <a:lnSpc>
                <a:spcPct val="100000"/>
              </a:lnSpc>
              <a:spcBef>
                <a:spcPts val="601"/>
              </a:spcBef>
              <a:buClr>
                <a:srgbClr val="e689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調査やアンケートの結果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262080" indent="-262080">
              <a:lnSpc>
                <a:spcPct val="100000"/>
              </a:lnSpc>
              <a:spcBef>
                <a:spcPts val="601"/>
              </a:spcBef>
              <a:buClr>
                <a:srgbClr val="e689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届出件数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262080" indent="-262080">
              <a:lnSpc>
                <a:spcPct val="100000"/>
              </a:lnSpc>
              <a:spcBef>
                <a:spcPts val="601"/>
              </a:spcBef>
              <a:buClr>
                <a:srgbClr val="e689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グラフ化した元のデータ　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262080" indent="-262080">
              <a:lnSpc>
                <a:spcPct val="100000"/>
              </a:lnSpc>
              <a:spcBef>
                <a:spcPts val="601"/>
              </a:spcBef>
              <a:buClr>
                <a:srgbClr val="e689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変動する数字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262080" indent="-262080">
              <a:lnSpc>
                <a:spcPct val="100000"/>
              </a:lnSpc>
              <a:spcBef>
                <a:spcPts val="601"/>
              </a:spcBef>
              <a:buClr>
                <a:srgbClr val="e689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参加者人数　　　　　　　　　　　　　　等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9" name="Rectangle 186"/>
          <p:cNvSpPr/>
          <p:nvPr/>
        </p:nvSpPr>
        <p:spPr>
          <a:xfrm>
            <a:off x="684360" y="5516640"/>
            <a:ext cx="8064360" cy="576360"/>
          </a:xfrm>
          <a:prstGeom prst="rect">
            <a:avLst/>
          </a:prstGeom>
          <a:solidFill>
            <a:srgbClr val="ffe8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庁外からのオープンデータダウンロード実績集計結果も活用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1-08T02:47:22Z</dcterms:created>
  <dc:creator/>
  <dc:description/>
  <cp:keywords/>
  <dc:language>en-US</dc:language>
  <cp:lastModifiedBy/>
  <dcterms:modified xsi:type="dcterms:W3CDTF">2020-01-08T02:47:38Z</dcterms:modified>
  <cp:revision>1</cp:revision>
  <dc:subject/>
  <dc:title/>
</cp:coreProperties>
</file>