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notesMasterIdLst>
    <p:notesMasterId r:id="rId22"/>
  </p:notes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  <p:sldId id="272" r:id="rId39"/>
    <p:sldId id="273" r:id="rId40"/>
    <p:sldId id="274" r:id="rId41"/>
    <p:sldId id="275" r:id="rId42"/>
    <p:sldId id="276" r:id="rId4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notesMaster" Target="notesMasters/notesMaster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slide" Target="slides/slide17.xml"/><Relationship Id="rId40" Type="http://schemas.openxmlformats.org/officeDocument/2006/relationships/slide" Target="slides/slide18.xml"/><Relationship Id="rId41" Type="http://schemas.openxmlformats.org/officeDocument/2006/relationships/slide" Target="slides/slide19.xml"/><Relationship Id="rId42" Type="http://schemas.openxmlformats.org/officeDocument/2006/relationships/slide" Target="slides/slide20.xml"/><Relationship Id="rId43" Type="http://schemas.openxmlformats.org/officeDocument/2006/relationships/slide" Target="slides/slide21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dt" idx="6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CA36CC43-924F-44E0-8428-4F46BB0125E3}" type="datetime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26/0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sldImg"/>
          </p:nvPr>
        </p:nvSpPr>
        <p:spPr>
          <a:xfrm>
            <a:off x="915840" y="74268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 type="ftr" idx="6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 type="sldNum" idx="6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  <a:def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4C835A4A-3197-40E8-88C9-3DD251276082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FE8A5-1DBE-4170-A2BD-C1245459BFF7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2B06-F8CD-4516-8FB8-3EE5CECA4C96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A77F-DE7B-4C58-B237-140318D9BB21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31607-DC5F-4B2E-B4CE-C7EA82AB6DF4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D089A-040D-40A1-A4B0-ED1D6272D51A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2EC3D-46FB-4F87-A0DB-EA90E5C87063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5ADA7-C9B9-4073-80B9-0F2E43FE9985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F6B0-967C-46F7-A78D-EC71F7BB3BE3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C58B-123A-4628-9060-CBB28FCBCE61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4FA1F-9402-4122-8C4E-38505A9C2186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9BE2-9AA1-4746-BBAA-67446D527ECA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121F-A930-4A40-A167-625D0727EAE1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FDEEEA9A-A808-49FD-B822-2761B5392C07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39560"/>
                <a:tab algn="l" pos="879480"/>
                <a:tab algn="l" pos="1319040"/>
                <a:tab algn="l" pos="1758960"/>
                <a:tab algn="l" pos="2198520"/>
                <a:tab algn="l" pos="2638440"/>
                <a:tab algn="l" pos="3078000"/>
                <a:tab algn="l" pos="3517920"/>
                <a:tab algn="l" pos="3957480"/>
                <a:tab algn="l" pos="4397400"/>
                <a:tab algn="l" pos="4836960"/>
                <a:tab algn="l" pos="5276880"/>
                <a:tab algn="l" pos="5716440"/>
                <a:tab algn="l" pos="6156360"/>
                <a:tab algn="l" pos="6595920"/>
                <a:tab algn="l" pos="7035840"/>
                <a:tab algn="l" pos="7475400"/>
                <a:tab algn="l" pos="7915320"/>
                <a:tab algn="l" pos="8354880"/>
                <a:tab algn="l" pos="8794800"/>
              </a:tabLst>
            </a:pPr>
            <a:fld id="{303D3E29-C541-4B2F-A268-59EF4409648C}" type="slidenum">
              <a:rPr b="0" lang="ja-JP" sz="1300" spc="-1" strike="noStrike">
                <a:solidFill>
                  <a:srgbClr val="000000"/>
                </a:solidFill>
                <a:latin typeface="メイリオ"/>
                <a:ea typeface="メイリオ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8E429-F968-4566-A998-5DBABF3F40DF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90DF-3600-4DC9-8828-00F9E2FDED93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F959D-BD3C-46E9-BC21-466E05FF0E68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4B02-D750-4C70-8973-D73BEDB43275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1C803-BF6D-443D-A374-D312C613F7D3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8D98-961E-442E-A9C8-F94A993C27C9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915840" y="74304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スライド番号プレースホルダー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A645D-4E6D-4311-802D-02041F766A7A}" type="slidenum">
              <a:rPr b="0" lang="ja-JP" sz="13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2FF-3C77-40B7-8DC6-0840AC5AE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771-E4A9-457E-A4C9-6A1099DC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B3CA1-7153-4F75-8AAA-9082F110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0E8CA7-74B0-4140-965A-29C3F99B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5CB37-DF46-48F4-9132-7483D0BC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D4EFBD-C2F5-42E3-8AF5-E585B6E0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CF607-75D3-4D6E-93CF-F0AD63C9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EDEDE4-E61A-44B2-85B1-EEFD5A5F0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249772-A284-435E-8554-FB9CE5B7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B6D9F8-3C2E-40FB-A1A7-EC042EB45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B90D74-936B-415A-86F5-A69DAF7A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3CA613-1E01-46FB-80AA-76D8E44C0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79FE-ACAA-43B2-9525-FE8B4C985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2A4170-03CA-4E6B-8780-80048BBB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782ED-71DD-45E9-B848-25AFEF73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18B67-7E58-4575-BA7C-6C62CEB57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E14F5-6DC0-410C-9D24-E5E87F3B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F068F9-4D98-4555-BE44-FEE4FCB8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56032F-B9BF-4A0E-BBC9-C52708711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7DB71-7B93-4DFA-A4D7-DE0CB32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679B2-1EFF-4D27-B08A-F11CD561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E2C9B-6454-48EE-AAA8-DF17AC4B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109889-5EB5-43B4-9342-FD17E6C34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77A0-3EB5-463C-890E-DCA479525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1F1C9B-853F-4B9E-B326-E0412CAF1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224D77-0634-4C82-9390-AB66C297E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BD67F-A104-439D-B9CE-952A8A4A4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3B4689-2024-47F9-B178-A9AF7B7F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E44F06-F01A-4A7F-A721-F2B8E1C4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8F083-8758-4F92-BE45-4AFDE8145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A7C063-0D31-4ADB-8C45-0FD97317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E8B95-31A5-4DBD-B35B-37D26E62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44858F-545F-4DC8-86FD-99BE4CB1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3C857F-1D41-443A-8CBA-7EA76EC7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0CA2-2F61-4B00-9265-4B5EE830D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143139-A4F9-43C1-999C-8933AE20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233C6-97AE-4C95-9BCC-7C4D0678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3F1D0-0755-4E17-869B-2CBA429DD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F185C-7785-4669-A72B-002E6231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282BD5-8873-440B-AE5E-7CA93293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FF0DF6-08C9-411E-AAFC-D8EF7561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65C81A-28E7-4CE4-AD6A-94ADBEBC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FA0E31-200B-4CDA-A918-DA7EC4DA6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9639E9-5BE1-4CEB-BBA7-399A00D07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34AB1-6B46-4499-8D7B-CB6B831D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8980-D1EE-4519-8470-B658C44D8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AD97F-27E9-4B66-BF1E-E33B1A70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CD0869-2ADB-48FA-9CD7-7434622C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2357F-A847-485F-9429-DA922D05D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A8640-B34D-454F-9A38-D5F40A50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2C046-5F34-4864-BE91-028203424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D82FD0-CBD2-42E7-B382-70B9BE463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FABA9E-F0D1-48C9-B7AA-189D238F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425BF6-A85D-4C6C-9F09-FA7FC7DC7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5B14F0-7EB5-4F6C-8EED-D6480011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E3C5C-266E-4886-AB7B-8A4976A5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ABABB-A043-4D12-8043-EB581425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0C6F2-FE50-430E-A754-76FFD7A67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84DF4A-EDA5-4875-9A26-1167800F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B8E362-4833-4B02-BF73-DF28D17F0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D78BE5-0BCA-4DC8-AE42-742F8565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5C34E8-F40F-4AE4-BC58-4F264A8A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AFE0F4-3FD0-4471-9972-B3F87AD8D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3014E0-17AC-42F4-92D0-CEDC0CB4D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A149FD-E614-4999-A1C8-C1F1C279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6AD06D-B2E2-401A-A804-0574D17C6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7F42E-593D-41DB-85BF-7C52D935B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5A827-4C0E-4BDF-9869-326887DE3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D790BE-AC7F-4A15-9C30-5E9A426E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C732C2-3881-4EDC-8B7B-92F9D00F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732DE7-0E83-4E66-872A-702F7E320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6BEA72-8CFA-49B9-BBB7-6FCF653B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2F3B44-CD22-4302-8D5C-A390F4492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529108-2A97-403F-92F9-B1ADF7C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BD21BA-F403-40C1-BADC-5B2A7AE88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D95887-D115-4724-BA74-BEC3D016A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1B33E0-399F-4609-B667-A27AFEDA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0AE13A-D05D-4408-A5DE-8164D3F74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47DD-98D1-4D79-81F0-2E9BFAD8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1DBDA-9E0A-4E15-8D9A-F3D735C02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6FFC9D-B3A0-4314-85F2-D00FD379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19F0E5-41AD-4A6A-98BC-7B8160548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F491C5-33C0-4083-8EC8-2994DDAC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E828C4-F3FD-4188-B3C3-C563C669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31B24-D5CB-4874-964D-BF6FF057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541E62-E740-4E52-B44B-22360B03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A94DF38-266B-4BB9-B7E3-D23318CE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FE12C6-E851-42B5-85D6-D257616BD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A3E87F-D66A-4694-89BC-245B701AD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2EDBE-D9F3-4A05-8A7F-3499493E8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F13BE6-7C5C-4BA8-99AE-2DBF4115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648A77-E8AA-4A17-9E1A-B91A8BEE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EEAD56-8315-444D-BD1E-C9FAF860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22B604-1AEC-4D28-A53C-48CD5868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7475D-9E28-4EAF-8DCE-CD13B1F1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D1B80B-DF97-43FF-BBB4-989A8E181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BE1DBB-B134-4E75-8E1F-6B3F40C5B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7C051F-F152-4D61-850D-01976916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771F35-F25E-40DB-8B54-A1A73777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5E7949-41E7-42AE-B950-4A9B9E7F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B350E-4014-4470-BC23-B8D72E7F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39D0BF-00F0-4173-90A8-A11A0480D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AF565C-4EAE-450B-9052-F030E645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A6B8BF-855C-4A22-9FA7-6EE45D05E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60F4E7-538A-4EF9-B9B7-2EBB1E9A4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8863FA-3A66-4BAE-A83C-B9BED4CE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856F82-BC56-4E0A-9564-66864BFDC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254E5B7-C773-4885-AC5B-C99ED747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8B3F19-C1D9-40D6-86E8-5545315D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060DA-FFDC-4D16-9198-86E661881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4D71B4E-31B2-4945-B515-8F3E8818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2186-5EB2-4946-8787-D98A837E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35497-8AE9-43A2-B9E2-D2833125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74E32E-FD3A-4EFA-A1DE-EBD4C8F4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54E530-CC70-44F3-9D3C-50EA6215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6E2F9E-E366-4DB8-BA7B-6D1227E27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5ECC43-3931-4AC0-8231-6ED3A1EB9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E27993-E86F-4ACC-809A-F2DB5119B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1F79E1-A4E5-46E3-8282-36898949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E9B397-DEF7-4A92-BBB3-690E9F8AD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7B297C-56E9-4433-B27B-13E657EFB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B298CD-8503-4B67-BEA4-E617C5C6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36351B-D6D2-47AE-98C1-FB5547241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5CFB-EC30-42F7-B678-192E48B9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046893-BBB0-4F0F-96F9-42D245E3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BEF865-7C12-45DB-8C71-054F6CB2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C859FE-8229-4AD0-88BC-A79B8787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B5A06C-F3FC-44BB-B56F-7410E605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6C78B5-B4A0-439D-9D6D-1920FA6E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CCFAF-EBBF-4560-942A-5EE63376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CCDD33-D23D-404C-A872-F1BFAD526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995E1B-263C-4CF9-B6F5-AA0691154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389490-4825-4A1B-84CA-2029A9B7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AF9F63-0E57-4101-9D4E-F04B83494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5D7F-5320-4EA6-B33A-BFEF5C75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261CC-D215-4B8C-96FA-FA7A705C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D5363-6A1A-4D73-960D-90587DA03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D9FF63-3A9F-46DA-9ED8-AC4B12C9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114408-D009-44C4-8F8B-553343BE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734B03-8083-441E-9943-D2375D59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6115A7-E0C3-41F1-973A-5F54D008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6C8D67-8F08-4B8D-B1B4-19EB9D718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BB56B9-B3AA-411C-A244-4E98AB883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5D00DB-1691-4289-83C3-6DFAEFF8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9B54C3-2C0E-420D-9C13-ED2F7ADD5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4BB3-8BEE-4362-8947-FAF4C155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54C4F1C-48E4-4DF2-87AB-CD6D8EE29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A564E01-680C-4620-9866-CBA67F5C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E0030E-9EA6-43ED-9150-F4BE5EBE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878EF4-8417-4658-A599-301B3999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1A8245-69C4-426F-A68F-8B077946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7C4E7E-0606-4A34-B1B8-BEFC0D425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15AC56-70E2-42F1-8506-0A6E7A3A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B55229-21F7-4CB1-BFE8-7FB8A660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FAF718-C41A-4D1C-9748-84D86D61F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BAF6B9-928E-4BAC-A745-2735DD7F8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43ED-87B2-4C30-894A-E529B54B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61373-0A28-4D98-BD5F-8953FDD8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8484C5-917B-431D-B18E-BB1CC4EBF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80ACF-F5D2-46F0-AA1A-40ACA8B6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BFAF6C-8CCD-41F8-AB72-69A47178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AB713-5C87-4B25-B486-B4F97B69F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1FAD2-1504-49E6-9E54-51888CEF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8FEC-2356-435E-AF3F-BA4A647F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56125-218E-4FA4-A095-E4A9026D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AD2AE-9A04-4221-918B-F89800F3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CFA45-922A-4960-B727-3DAE5E97C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BFAAF-C46E-482E-A51C-CD5F5292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A2F59-4F02-436B-9DAD-45E3AA6A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F2638-37A7-4840-975C-8A906F5EE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CC300-910E-4218-8099-5F28CB5E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61CBB-74E5-4F57-89C4-9CF9E9348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4BC1F-85BE-4CC4-89DE-BEDD46F89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129E3-666D-443A-94AB-F033B08B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580F-CF04-4897-8973-A882ED89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3EA81-D73E-43C4-A4B9-064DD376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87763-9D3D-482C-B2C9-A19665F4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8F616-EB61-4C68-9B41-3C9255B9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C03A6-DEEF-44EA-AD27-1F6B49A2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E195B-953F-4D13-8AC9-988F5950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E1F8D-2129-4429-9013-F18FBBA6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B055-CA3C-4F9E-A956-DFDBB3F7C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B9D7D-55E9-45D4-8A65-A09F570AD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37786-5490-4BC4-802B-A58AD8993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B4D6E-410C-4F24-BB80-A58206461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05BB-3F00-435A-B3EA-F160E0B2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170A26-BD58-4698-BB22-63F18720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3E357-E9EB-4997-97A1-DA5425C4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C7538-A350-4A3F-85F4-589D1D4A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0F2CF-FB32-455A-BBF8-FFC7322F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4185C-BF7B-4B50-BB24-DF89AB4B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1BD5A-C9C7-479F-93E8-28FEC8E6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627293-DC56-4DCD-98D8-A9590529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CF04-2160-4598-A8C5-C67FBF96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4CC425-65BE-493A-9A4D-389AC84A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69763B-9C09-447A-BA5E-484E63C7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776C-DE65-4387-A733-EBB92C292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546C9-C8ED-407B-A777-D5FFC57E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220DCD-EE3C-45BE-A25D-D815CBBF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A1CF1-7881-4756-867D-72836565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17812-6426-4D5B-96FD-CFEAD673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7DB53E-0FC1-4595-8B6C-727E4511A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B8104-2EF2-4BD0-A623-57264A59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68C2C9-C134-400F-A939-F4DB531A2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FD5DE-BD71-462E-B6BF-73BD93C9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AAD048-F630-4DA8-87AD-EEC6BD7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A84B4-6C21-4483-8377-486C0F13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C2A-8348-4447-89C1-5F344DE3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AE209-28AF-4FCD-A2B8-A74425C7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2515A-1B54-4A7D-980E-E1BB1D264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7EC2F-6164-4085-83C2-EDBAAAB3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6574D1-344D-44CE-ABF0-9F769133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DBB6F-45ED-461C-82DB-2AB03AD19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EEB58D-2B04-4940-859B-5BB1AF7E7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5D95C-E286-44EB-8A11-4552775F4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D2EE75-1B78-43D4-AF0B-8CE132188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382857-2383-4B2B-9865-91946DBC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6ABA5-0A55-4C8C-8616-56275CFB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B9A-1F0A-47BF-B953-E939C720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6821A7-7BAA-40BE-AB5C-5E7D0ADD4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A15CE3-0006-49C7-ACA3-7F7E15E9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8F1B8D-5A94-4A50-B41D-A917D1B5C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936BA-603B-44D1-8085-5409C378F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2A3C1C-932C-410B-824E-68665593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D1859-F8F1-4C78-B39B-46573AF2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CDADB-C6F6-48B6-9FC0-F08F8916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66057-B380-460E-8AB6-0751460F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A0BAC-E25F-4C37-B75C-DA18C3345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EF00F-A426-4142-9981-20EBF2AF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1594-3CF9-42B9-A458-5CC8EEF1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2171880" y="763560"/>
            <a:ext cx="6378480" cy="599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EF74C-D819-495C-95B2-03991CC8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3A91E-D6DE-41B5-95B3-7EC620FF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B221A-3DF5-47A0-973A-2BFE0E24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10F51-75D1-48A2-B801-1B646A34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93640" y="4319640"/>
            <a:ext cx="795672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0843A-2B15-4CF6-B2DE-EF7EBE02D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0640" y="219348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593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0640" y="4319640"/>
            <a:ext cx="388260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C9446-25E5-4187-A192-A0D2CD795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8392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974200" y="219348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59364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8392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5974200" y="4319640"/>
            <a:ext cx="2561760" cy="19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E8D20-3EBA-41A0-B8EC-45168B664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59E43-C582-4E49-88CF-CEDDC348B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08B9C-4A11-4A53-9E99-AEB70B25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831A19-4905-4A69-A575-1DD0E0F1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EB0D-12EA-4754-A55A-D70B663B8563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0AD5-7FF9-4EF5-A828-BDA4B72BE306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E661-A86B-4D7B-88E4-92874B473DD1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8F623-3ADE-45B7-86A6-8586ECA9BA07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31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51C0-EC12-4BBE-AC7C-B2B8008677D2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32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3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3442-AF47-4092-ABBF-4A5788108B79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4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A05D-1B60-4601-B74D-F45EBEE954E9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5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6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5FD24-A3CE-4BD4-97D6-FD77E39A4F9D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7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4B14-148C-4AAE-B96A-7FD434F26C10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8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9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6B37-00A5-4F71-B15D-2645092A0705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 type="dt" idx="40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5EF99-A76A-4139-96B9-20FC6DF63643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 type="ftr" idx="41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 type="sldNum" idx="42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305A-3CFF-43D5-BEAB-A17F2EF7EE3A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E6BBB-5D97-4DEF-841F-02737BCB409E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008E-B8CB-475E-8E99-90C46C08F693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 type="dt" idx="4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83B4-8959-46BD-B703-EC920197B9A9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 type="ftr" idx="47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 type="sldNum" idx="48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FA1F-2751-4338-9FC6-48132523E85F}" type="slidenum">
              <a:rPr b="1" lang="ja-JP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dt" idx="49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C623C-B7C0-49C2-83BD-EC5544AE93B0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 type="ftr" idx="50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9" name="PlaceHolder 5"/>
          <p:cNvSpPr>
            <a:spLocks noGrp="1"/>
          </p:cNvSpPr>
          <p:nvPr>
            <p:ph type="sldNum" idx="51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5AE2-1029-4D65-9668-6EE71027FE04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52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04FE-86A4-4B36-A705-764C0F5A48F6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53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4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AA9A0-7C29-49BF-B9C3-D395E23FBA74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B48F-3E73-4C76-ABCE-1EA51E0CA0C7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961B8-6DB4-4237-88ED-89E67F7A379D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C2-HD-TOP.png"/>
          <p:cNvPicPr/>
          <p:nvPr/>
        </p:nvPicPr>
        <p:blipFill>
          <a:blip r:embed="rId2"/>
          <a:stretch/>
        </p:blipFill>
        <p:spPr>
          <a:xfrm>
            <a:off x="0" y="0"/>
            <a:ext cx="9144000" cy="1081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C2-HD-BTM.png"/>
          <p:cNvPicPr/>
          <p:nvPr/>
        </p:nvPicPr>
        <p:blipFill>
          <a:blip r:embed="rId3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932080" y="4324320"/>
            <a:ext cx="2297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1D51-4B33-4352-AD06-397E1026225B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040" y="4324320"/>
            <a:ext cx="4879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74943-D524-43DC-97A4-097701B58272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58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07729-9DDB-46CC-8072-7267A143705B}" type="datetime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59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60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1658-897B-41FC-BAA6-C54E31D91928}" type="slidenum">
              <a:rPr b="0" lang="ja-JP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8475-1204-4BF2-B50A-D20495C12679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0F3C-314B-4B9F-8929-2AD04DDC3A6F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4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2"/>
          <p:cNvSpPr/>
          <p:nvPr/>
        </p:nvSpPr>
        <p:spPr>
          <a:xfrm>
            <a:off x="231840" y="80820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TextBox 13"/>
          <p:cNvSpPr/>
          <p:nvPr/>
        </p:nvSpPr>
        <p:spPr>
          <a:xfrm>
            <a:off x="8147160" y="3021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E797-1CBC-43D0-9B6B-53A6600C5FF0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FA67-F6D0-40B6-8BE4-AAF94672DB25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8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5562360" y="379440"/>
            <a:ext cx="218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0845-4BCE-49F4-9FE6-9264B758D25B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593280" y="379440"/>
            <a:ext cx="4830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66813-A463-44DB-8C9B-EC53D6EE7223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C2-HD-BTM.png"/>
          <p:cNvPicPr/>
          <p:nvPr/>
        </p:nvPicPr>
        <p:blipFill>
          <a:blip r:embed="rId2"/>
          <a:stretch/>
        </p:blipFill>
        <p:spPr>
          <a:xfrm>
            <a:off x="0" y="4995720"/>
            <a:ext cx="9144000" cy="186228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C80D-DAE9-4099-A8A4-E1620817362D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7881480" y="380520"/>
            <a:ext cx="668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6BD2-2178-4600-9B60-A644C9C26BCE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1A687-F80D-4452-B783-F1B4A07F0B99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20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21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028C-957A-46C8-BB45-540483D5D4D5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6411960" y="635652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5AB63-ACAE-4417-8195-F04DFC1F80E9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593280" y="6356520"/>
            <a:ext cx="5681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71800" y="380520"/>
            <a:ext cx="1978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92D7-C479-4638-A9DD-4B0CB2EB4D10}" type="slidenum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171880" y="763560"/>
            <a:ext cx="6378480" cy="12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593640" y="2193480"/>
            <a:ext cx="795672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dt" idx="25"/>
          </p:nvPr>
        </p:nvSpPr>
        <p:spPr>
          <a:xfrm>
            <a:off x="5562360" y="380520"/>
            <a:ext cx="2182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98989"/>
                </a:solidFill>
                <a:latin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9552-6233-4BED-AF2B-E89F0655799D}" type="datetime">
              <a:rPr b="0" lang="ja-JP" sz="1000" spc="-1" strike="noStrike">
                <a:solidFill>
                  <a:srgbClr val="898989"/>
                </a:solidFill>
                <a:latin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ftr" idx="26"/>
          </p:nvPr>
        </p:nvSpPr>
        <p:spPr>
          <a:xfrm>
            <a:off x="593280" y="380520"/>
            <a:ext cx="4830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 type="sldNum" idx="27"/>
          </p:nvPr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4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2045-7C5B-48A6-838A-B37AA793CBE5}" type="slidenum"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スライド番号プレースホルダー 3"/>
          <p:cNvSpPr/>
          <p:nvPr/>
        </p:nvSpPr>
        <p:spPr>
          <a:xfrm>
            <a:off x="6972480" y="6492960"/>
            <a:ext cx="2171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1B9F-F627-4299-BABB-A887ADF3D327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1341000"/>
            <a:ext cx="731520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002060"/>
                </a:solidFill>
                <a:latin typeface="MS UI Gothic"/>
                <a:ea typeface="MS UI Gothic"/>
              </a:rPr>
              <a:t>オープンデータの取り組み</a:t>
            </a:r>
            <a:br>
              <a:rPr sz="4800"/>
            </a:br>
            <a:r>
              <a:rPr b="0" lang="ja-JP" sz="4800" spc="-1" strike="noStrike">
                <a:solidFill>
                  <a:srgbClr val="002060"/>
                </a:solidFill>
                <a:latin typeface="MS UI Gothic"/>
                <a:ea typeface="MS UI Gothic"/>
              </a:rPr>
              <a:t>について</a:t>
            </a:r>
            <a:endParaRPr b="0" lang="en-US" sz="4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914400" y="4267080"/>
            <a:ext cx="7315200" cy="18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令和２年１月７日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流山市　総合政策部　情報政策・改革改善課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entury Gothic"/>
              </a:rPr>
              <a:t>課長補佐　佐藤　慎一郎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DA3B2-80C0-4FA4-8074-61FD12582503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適したデータ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2" name="テキスト ボックス 6"/>
          <p:cNvSpPr/>
          <p:nvPr/>
        </p:nvSpPr>
        <p:spPr>
          <a:xfrm>
            <a:off x="250920" y="126828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</a:rPr>
              <a:t>オープンデータでは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3" name="テキスト ボックス 7"/>
          <p:cNvSpPr/>
          <p:nvPr/>
        </p:nvSpPr>
        <p:spPr>
          <a:xfrm>
            <a:off x="395280" y="1773360"/>
            <a:ext cx="1584360" cy="576000"/>
          </a:xfrm>
          <a:prstGeom prst="roundRect">
            <a:avLst>
              <a:gd name="adj" fmla="val 16667"/>
            </a:avLst>
          </a:prstGeom>
          <a:solidFill>
            <a:srgbClr val="4ec0e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価値あるデータ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4" name="テキスト ボックス 8"/>
          <p:cNvSpPr/>
          <p:nvPr/>
        </p:nvSpPr>
        <p:spPr>
          <a:xfrm>
            <a:off x="2627280" y="1773360"/>
            <a:ext cx="2376360" cy="576000"/>
          </a:xfrm>
          <a:prstGeom prst="roundRect">
            <a:avLst>
              <a:gd name="adj" fmla="val 16667"/>
            </a:avLst>
          </a:prstGeom>
          <a:solidFill>
            <a:srgbClr val="0d5d7b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ＭＳ Ｐゴシック"/>
              </a:rPr>
              <a:t>使いやすいデー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5" name="正方形/長方形 9"/>
          <p:cNvSpPr/>
          <p:nvPr/>
        </p:nvSpPr>
        <p:spPr>
          <a:xfrm>
            <a:off x="2050920" y="1844640"/>
            <a:ext cx="505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e5d7b"/>
                </a:solidFill>
                <a:latin typeface="ＭＳ Ｐゴシック"/>
              </a:rPr>
              <a:t>＝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6" name="右矢印 10"/>
          <p:cNvSpPr/>
          <p:nvPr/>
        </p:nvSpPr>
        <p:spPr>
          <a:xfrm>
            <a:off x="5219640" y="1916280"/>
            <a:ext cx="289080" cy="360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e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887" name="テキスト ボックス 11"/>
          <p:cNvGrpSpPr/>
          <p:nvPr/>
        </p:nvGrpSpPr>
        <p:grpSpPr>
          <a:xfrm>
            <a:off x="5705640" y="1542960"/>
            <a:ext cx="2914560" cy="1108080"/>
            <a:chOff x="5705640" y="1542960"/>
            <a:chExt cx="2914560" cy="1108080"/>
          </a:xfrm>
        </p:grpSpPr>
        <p:pic>
          <p:nvPicPr>
            <p:cNvPr id="888" name="テキスト ボックス 11" descr=""/>
            <p:cNvPicPr/>
            <p:nvPr/>
          </p:nvPicPr>
          <p:blipFill>
            <a:blip r:embed="rId1"/>
            <a:stretch/>
          </p:blipFill>
          <p:spPr>
            <a:xfrm>
              <a:off x="5705640" y="1542960"/>
              <a:ext cx="2914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9" name="Rectangle 183"/>
            <p:cNvSpPr/>
            <p:nvPr/>
          </p:nvSpPr>
          <p:spPr>
            <a:xfrm>
              <a:off x="5776920" y="1609560"/>
              <a:ext cx="2774880" cy="97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ＭＳ Ｐゴシック"/>
                </a:rPr>
                <a:t>コンピュータで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400" spc="-1" strike="noStrike">
                  <a:solidFill>
                    <a:srgbClr val="0000cc"/>
                  </a:solidFill>
                  <a:latin typeface="ＭＳ Ｐゴシック"/>
                </a:rPr>
                <a:t>扱いやすいこと</a:t>
              </a:r>
              <a:endParaRPr b="0" lang="en-US" sz="24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890" name="正方形/長方形 12"/>
          <p:cNvGrpSpPr/>
          <p:nvPr/>
        </p:nvGrpSpPr>
        <p:grpSpPr>
          <a:xfrm>
            <a:off x="669960" y="4280040"/>
            <a:ext cx="8096040" cy="1395360"/>
            <a:chOff x="669960" y="4280040"/>
            <a:chExt cx="8096040" cy="1395360"/>
          </a:xfrm>
        </p:grpSpPr>
        <p:pic>
          <p:nvPicPr>
            <p:cNvPr id="891" name="正方形/長方形 12" descr=""/>
            <p:cNvPicPr/>
            <p:nvPr/>
          </p:nvPicPr>
          <p:blipFill>
            <a:blip r:embed="rId2"/>
            <a:stretch/>
          </p:blipFill>
          <p:spPr>
            <a:xfrm>
              <a:off x="669960" y="4280040"/>
              <a:ext cx="80960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2" name="Rectangle 186"/>
            <p:cNvSpPr/>
            <p:nvPr/>
          </p:nvSpPr>
          <p:spPr>
            <a:xfrm>
              <a:off x="684360" y="4292640"/>
              <a:ext cx="8064360" cy="13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262080" indent="-262080">
                <a:lnSpc>
                  <a:spcPct val="100000"/>
                </a:lnSpc>
                <a:spcBef>
                  <a:spcPts val="601"/>
                </a:spcBef>
                <a:buClr>
                  <a:srgbClr val="0e5d7b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コンピュータが読み取りやすい形であることを「機械判読に適している」という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  <a:p>
              <a:pPr marL="262080" indent="-262080">
                <a:lnSpc>
                  <a:spcPct val="100000"/>
                </a:lnSpc>
                <a:spcBef>
                  <a:spcPts val="601"/>
                </a:spcBef>
                <a:buClr>
                  <a:srgbClr val="0e5d7b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ＭＳ Ｐゴシック"/>
                </a:rPr>
                <a:t>データの構造（例えばタイトルや図表等）をコンピュータが判別しやすく、構造の中の値（例えば数値やテキスト等）が処理しやすい形式になっていることを表す</a:t>
              </a: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grpSp>
        <p:nvGrpSpPr>
          <p:cNvPr id="893" name="グループ化 13"/>
          <p:cNvGrpSpPr/>
          <p:nvPr/>
        </p:nvGrpSpPr>
        <p:grpSpPr>
          <a:xfrm>
            <a:off x="2556000" y="3716280"/>
            <a:ext cx="3960720" cy="73080"/>
            <a:chOff x="2556000" y="3716280"/>
            <a:chExt cx="3960720" cy="73080"/>
          </a:xfrm>
        </p:grpSpPr>
        <p:sp>
          <p:nvSpPr>
            <p:cNvPr id="894" name="直線コネクタ 14"/>
            <p:cNvSpPr/>
            <p:nvPr/>
          </p:nvSpPr>
          <p:spPr>
            <a:xfrm>
              <a:off x="2556000" y="3716280"/>
              <a:ext cx="396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895" name="直線コネクタ 15"/>
            <p:cNvSpPr/>
            <p:nvPr/>
          </p:nvSpPr>
          <p:spPr>
            <a:xfrm>
              <a:off x="2556000" y="3789360"/>
              <a:ext cx="396072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sp>
        <p:nvSpPr>
          <p:cNvPr id="896" name="下矢印 35"/>
          <p:cNvSpPr/>
          <p:nvPr/>
        </p:nvSpPr>
        <p:spPr>
          <a:xfrm>
            <a:off x="4356000" y="3933720"/>
            <a:ext cx="432000" cy="216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d5d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7" name="正方形/長方形 17"/>
          <p:cNvSpPr/>
          <p:nvPr/>
        </p:nvSpPr>
        <p:spPr>
          <a:xfrm>
            <a:off x="755640" y="3284640"/>
            <a:ext cx="8280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オープンデータは、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コンピュータが読み取りやすい形</a:t>
            </a: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が望ましい。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8" name="テキスト ボックス 6"/>
          <p:cNvSpPr/>
          <p:nvPr/>
        </p:nvSpPr>
        <p:spPr>
          <a:xfrm>
            <a:off x="669960" y="56610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9" name="図 1" descr=""/>
          <p:cNvPicPr/>
          <p:nvPr/>
        </p:nvPicPr>
        <p:blipFill>
          <a:blip r:embed="rId1"/>
          <a:stretch/>
        </p:blipFill>
        <p:spPr>
          <a:xfrm>
            <a:off x="390600" y="1123920"/>
            <a:ext cx="8362800" cy="4753080"/>
          </a:xfrm>
          <a:prstGeom prst="rect">
            <a:avLst/>
          </a:prstGeom>
          <a:ln w="0">
            <a:noFill/>
          </a:ln>
        </p:spPr>
      </p:pic>
      <p:sp>
        <p:nvSpPr>
          <p:cNvPr id="90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D957-6BCF-4C50-BE6F-B666C63661C1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適したファイル形式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2" name="テキスト ボックス 7"/>
          <p:cNvSpPr/>
          <p:nvPr/>
        </p:nvSpPr>
        <p:spPr>
          <a:xfrm>
            <a:off x="468360" y="907920"/>
            <a:ext cx="3382920" cy="1800360"/>
          </a:xfrm>
          <a:prstGeom prst="roundRect">
            <a:avLst>
              <a:gd name="adj" fmla="val 16667"/>
            </a:avLst>
          </a:prstGeom>
          <a:solidFill>
            <a:srgbClr val="99ffc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L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pen Licens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Reusable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F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Open Format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UR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Uniform Resource Identifie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LD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Linked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3" name="テキスト ボックス 6"/>
          <p:cNvSpPr/>
          <p:nvPr/>
        </p:nvSpPr>
        <p:spPr>
          <a:xfrm>
            <a:off x="390600" y="5872320"/>
            <a:ext cx="83628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リーダ育成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FE6C-3024-4C4E-81AA-7B24BAAAFFE5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情報の種類に適したファイル形式の例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6" name="正方形/長方形 4"/>
          <p:cNvSpPr/>
          <p:nvPr/>
        </p:nvSpPr>
        <p:spPr>
          <a:xfrm>
            <a:off x="496800" y="1052640"/>
            <a:ext cx="83152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情報の種類によって、適したファイル形式も異な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784080" y="1557360"/>
          <a:ext cx="7713720" cy="2814480"/>
        </p:xfrm>
        <a:graphic>
          <a:graphicData uri="http://schemas.openxmlformats.org/drawingml/2006/table">
            <a:tbl>
              <a:tblPr/>
              <a:tblGrid>
                <a:gridCol w="4176720"/>
                <a:gridCol w="1876680"/>
                <a:gridCol w="1660320"/>
              </a:tblGrid>
              <a:tr h="338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情報の種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ファイル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統計情報、施設の一覧など一覧形式となっている情報、予算・決算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表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Excel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CSV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　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報告書など、文章による情報や、図形、画像等が混在している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文書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PDF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Word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　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主に地図と組合せて利用する情報で、線や面などのデータを含むも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理空間情報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shp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形式な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</a:tbl>
          </a:graphicData>
        </a:graphic>
      </p:graphicFrame>
      <p:sp>
        <p:nvSpPr>
          <p:cNvPr id="908" name="正方形/長方形 7"/>
          <p:cNvSpPr/>
          <p:nvPr/>
        </p:nvSpPr>
        <p:spPr>
          <a:xfrm>
            <a:off x="1073160" y="5157720"/>
            <a:ext cx="7424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オープンデータとして公開する際は、利用者が加工しやすく、コンピュータ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プログラムが処理しやすい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「</a:t>
            </a:r>
            <a:r>
              <a:rPr b="1" lang="en-US" sz="2800" spc="-1" strike="noStrike">
                <a:solidFill>
                  <a:srgbClr val="000000"/>
                </a:solidFill>
                <a:latin typeface="ＭＳ Ｐゴシック"/>
              </a:rPr>
              <a:t>CSV</a:t>
            </a:r>
            <a:r>
              <a:rPr b="1" lang="ja-JP" sz="2800" spc="-1" strike="noStrike">
                <a:solidFill>
                  <a:srgbClr val="000000"/>
                </a:solidFill>
                <a:latin typeface="ＭＳ Ｐゴシック"/>
              </a:rPr>
              <a:t>形式」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とす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09" name="星 16 27"/>
          <p:cNvSpPr/>
          <p:nvPr/>
        </p:nvSpPr>
        <p:spPr>
          <a:xfrm>
            <a:off x="712800" y="4653000"/>
            <a:ext cx="1224000" cy="647640"/>
          </a:xfrm>
          <a:custGeom>
            <a:avLst/>
            <a:gdLst>
              <a:gd name="textAreaLeft" fmla="*/ 279360 w 1224000"/>
              <a:gd name="textAreaRight" fmla="*/ 944640 w 1224000"/>
              <a:gd name="textAreaTop" fmla="*/ 147600 h 647640"/>
              <a:gd name="textAreaBottom" fmla="*/ 500040 h 647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85a7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ＭＳ Ｐゴシック"/>
              </a:rPr>
              <a:t>オススメ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0" name="テキスト ボックス 6"/>
          <p:cNvSpPr/>
          <p:nvPr/>
        </p:nvSpPr>
        <p:spPr>
          <a:xfrm>
            <a:off x="669960" y="61596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775E4-2B31-4E94-879E-C3E41B923EE0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推奨データセッ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3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4" name="正方形/長方形 8"/>
          <p:cNvSpPr/>
          <p:nvPr/>
        </p:nvSpPr>
        <p:spPr>
          <a:xfrm>
            <a:off x="539640" y="907920"/>
            <a:ext cx="8353440" cy="20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normAutofit fontScale="97000"/>
          </a:bodyPr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e5d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世界最先端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国家創造宣言・官民データ活用推進基本計画における重点分野や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「地方公共団体アンケート」（平成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28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月実施）における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ニーズの高い分野を中　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心に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先進地方公共団体の公開済データ等を参考にしつつ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データセットを選定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buClr>
                <a:srgbClr val="0e5d7b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「推奨データセット」は、地方公共団体によるオープンデータの公開とその利活用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促進するため、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オープンデータに取り組み始める地方公共団体の参考となるよう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277200" indent="-27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ＭＳ Ｐゴシック"/>
              </a:rPr>
              <a:t>公開することが推奨されるデータセット及びフォーマット標準例をとりまとめたもの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826920" y="3213000"/>
          <a:ext cx="3713400" cy="2705040"/>
        </p:xfrm>
        <a:graphic>
          <a:graphicData uri="http://schemas.openxmlformats.org/drawingml/2006/table">
            <a:tbl>
              <a:tblPr/>
              <a:tblGrid>
                <a:gridCol w="371340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推奨データセット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基本編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1.AED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設置箇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2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介護サービス事業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3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医療機関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4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文化財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5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観光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6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ベント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7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衆無線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LAN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クセスポイント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6" name=""/>
          <p:cNvGraphicFramePr/>
          <p:nvPr/>
        </p:nvGraphicFramePr>
        <p:xfrm>
          <a:off x="4716360" y="3213000"/>
          <a:ext cx="3713400" cy="2705040"/>
        </p:xfrm>
        <a:graphic>
          <a:graphicData uri="http://schemas.openxmlformats.org/drawingml/2006/table">
            <a:tbl>
              <a:tblPr/>
              <a:tblGrid>
                <a:gridCol w="3713400"/>
              </a:tblGrid>
              <a:tr h="338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推奨データセット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(</a:t>
                      </a: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基本編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8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衆トイレ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9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消防水利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0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指定緊急避難場所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2.</a:t>
                      </a:r>
                      <a:r>
                        <a:rPr b="0" lang="zh-TW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公共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3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子育て施設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4.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ープンデータ一覧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</a:tbl>
          </a:graphicData>
        </a:graphic>
      </p:graphicFrame>
      <p:sp>
        <p:nvSpPr>
          <p:cNvPr id="917" name="正方形/長方形 11"/>
          <p:cNvSpPr/>
          <p:nvPr/>
        </p:nvSpPr>
        <p:spPr>
          <a:xfrm>
            <a:off x="826920" y="5904000"/>
            <a:ext cx="7632720" cy="58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出典：平成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3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日　内閣官房情報通信技術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総合戦略室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「推奨データセットについて」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7EA2-0A8F-413B-9EFC-B7151CB71A41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推奨データセット一覧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0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1" name="正方形/長方形 12"/>
          <p:cNvSpPr/>
          <p:nvPr/>
        </p:nvSpPr>
        <p:spPr>
          <a:xfrm>
            <a:off x="858960" y="6093000"/>
            <a:ext cx="74451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出典：政府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IO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ポータル「オープンデータ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-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推奨データセット」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（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https://cio.go.jp/policy-opendata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2" name="テキスト ボックス 14"/>
          <p:cNvSpPr/>
          <p:nvPr/>
        </p:nvSpPr>
        <p:spPr>
          <a:xfrm>
            <a:off x="284040" y="692280"/>
            <a:ext cx="87123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作成にあたり準拠すべきルールやフォーマット等は政府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CIO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ポータルに公開されて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い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23" name="図 1" descr=""/>
          <p:cNvPicPr/>
          <p:nvPr/>
        </p:nvPicPr>
        <p:blipFill>
          <a:blip r:embed="rId1"/>
          <a:stretch/>
        </p:blipFill>
        <p:spPr>
          <a:xfrm>
            <a:off x="826920" y="1311120"/>
            <a:ext cx="7477200" cy="478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図 1" descr=""/>
          <p:cNvPicPr/>
          <p:nvPr/>
        </p:nvPicPr>
        <p:blipFill>
          <a:blip r:embed="rId1"/>
          <a:stretch/>
        </p:blipFill>
        <p:spPr>
          <a:xfrm>
            <a:off x="343080" y="1989000"/>
            <a:ext cx="8458200" cy="2752920"/>
          </a:xfrm>
          <a:prstGeom prst="rect">
            <a:avLst/>
          </a:prstGeom>
          <a:ln w="0">
            <a:noFill/>
          </a:ln>
        </p:spPr>
      </p:pic>
      <p:sp>
        <p:nvSpPr>
          <p:cNvPr id="925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47BC-CA2F-425C-83C1-FF278306C6EF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2060"/>
                </a:solidFill>
                <a:latin typeface="メイリオ"/>
              </a:rPr>
              <a:t>推奨データセット作成にあたり準拠すべきルール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7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8" name="正方形/長方形 7"/>
          <p:cNvSpPr/>
          <p:nvPr/>
        </p:nvSpPr>
        <p:spPr>
          <a:xfrm>
            <a:off x="539640" y="936720"/>
            <a:ext cx="8353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推奨データセットごとに、項目を公開する際のデータ形式等がデータ項目定義書に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定められてい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9" name="正方形/長方形 8"/>
          <p:cNvSpPr/>
          <p:nvPr/>
        </p:nvSpPr>
        <p:spPr>
          <a:xfrm>
            <a:off x="380880" y="4741920"/>
            <a:ext cx="858384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典：平成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12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月３日　内閣官房情報通信技術（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IT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）総合戦略室「データ項目定義書（ベータ版）」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0" name="テキスト ボックス 10"/>
          <p:cNvSpPr/>
          <p:nvPr/>
        </p:nvSpPr>
        <p:spPr>
          <a:xfrm>
            <a:off x="3730680" y="1282680"/>
            <a:ext cx="5089320" cy="671400"/>
          </a:xfrm>
          <a:prstGeom prst="wedgeRoundRectCallout">
            <a:avLst>
              <a:gd name="adj1" fmla="val -82532"/>
              <a:gd name="adj2" fmla="val 80912"/>
              <a:gd name="adj3" fmla="val 16667"/>
            </a:avLst>
          </a:prstGeom>
          <a:solidFill>
            <a:srgbClr val="ffffff"/>
          </a:solidFill>
          <a:ln w="19080">
            <a:solidFill>
              <a:srgbClr val="a81637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区分（必須・任意等）を参考に保有している情報から公開を進めることを推奨す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1" name="正方形/長方形 11"/>
          <p:cNvSpPr/>
          <p:nvPr/>
        </p:nvSpPr>
        <p:spPr>
          <a:xfrm>
            <a:off x="395280" y="5059440"/>
            <a:ext cx="8361360" cy="17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凡例</a:t>
            </a: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◎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：データセットの核となる必須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〇　　：該当推奨データセットを活用したアプリの基本機能を簡単に実現するために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　　　　公開することが望ましい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空白 ：該当推奨データセットを活用したアプリの利便性の高い付加価値サービスを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         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実現するために公開することが望ましい項目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2" name="正方形/長方形 15"/>
          <p:cNvSpPr/>
          <p:nvPr/>
        </p:nvSpPr>
        <p:spPr>
          <a:xfrm>
            <a:off x="380880" y="1484280"/>
            <a:ext cx="85122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10.</a:t>
            </a: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指定緊急避難場所一覧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66F4-585B-4ABF-A186-4E8577BCE5B3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継続していくための取組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5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6" name="正方形/長方形 28"/>
          <p:cNvSpPr/>
          <p:nvPr/>
        </p:nvSpPr>
        <p:spPr>
          <a:xfrm>
            <a:off x="395280" y="4292640"/>
            <a:ext cx="5329080" cy="43344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オープンデータを継続していくための取り組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7" name="額縁 50"/>
          <p:cNvSpPr/>
          <p:nvPr/>
        </p:nvSpPr>
        <p:spPr>
          <a:xfrm>
            <a:off x="900000" y="5589720"/>
            <a:ext cx="5256360" cy="576000"/>
          </a:xfrm>
          <a:prstGeom prst="bevel">
            <a:avLst>
              <a:gd name="adj" fmla="val 7694"/>
            </a:avLst>
          </a:prstGeom>
          <a:solidFill>
            <a:srgbClr val="f6a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2) </a:t>
            </a:r>
            <a:r>
              <a:rPr b="0" lang="ja-JP" sz="1800" spc="-1" strike="noStrike">
                <a:solidFill>
                  <a:srgbClr val="000000"/>
                </a:solidFill>
                <a:latin typeface="Lucida Sans Unicode"/>
              </a:rPr>
              <a:t>オープンデータを拡充す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8" name="額縁 51"/>
          <p:cNvSpPr/>
          <p:nvPr/>
        </p:nvSpPr>
        <p:spPr>
          <a:xfrm>
            <a:off x="900000" y="4869000"/>
            <a:ext cx="5256360" cy="576000"/>
          </a:xfrm>
          <a:prstGeom prst="bevel">
            <a:avLst>
              <a:gd name="adj" fmla="val 7694"/>
            </a:avLst>
          </a:prstGeom>
          <a:solidFill>
            <a:srgbClr val="f6a3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</a:rPr>
              <a:t>(1) </a:t>
            </a:r>
            <a:r>
              <a:rPr b="0" lang="ja-JP" sz="1800" spc="-1" strike="noStrike">
                <a:solidFill>
                  <a:srgbClr val="000000"/>
                </a:solidFill>
                <a:latin typeface="Lucida Sans Unicode"/>
              </a:rPr>
              <a:t>公開したオープンデータを更新する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9" name="テキスト ボックス 6"/>
          <p:cNvSpPr/>
          <p:nvPr/>
        </p:nvSpPr>
        <p:spPr>
          <a:xfrm>
            <a:off x="669960" y="623736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940" name="図 1" descr=""/>
          <p:cNvPicPr/>
          <p:nvPr/>
        </p:nvPicPr>
        <p:blipFill>
          <a:blip r:embed="rId1"/>
          <a:stretch/>
        </p:blipFill>
        <p:spPr>
          <a:xfrm>
            <a:off x="357120" y="892080"/>
            <a:ext cx="842976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AC9F5-DAE7-4FF0-8179-8B3F723C629A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の更新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3" name="スライド番号プレースホルダー 2"/>
          <p:cNvSpPr/>
          <p:nvPr/>
        </p:nvSpPr>
        <p:spPr>
          <a:xfrm>
            <a:off x="8604360" y="6524640"/>
            <a:ext cx="504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4" name="正方形/長方形 67"/>
          <p:cNvSpPr/>
          <p:nvPr/>
        </p:nvSpPr>
        <p:spPr>
          <a:xfrm>
            <a:off x="284040" y="1484280"/>
            <a:ext cx="2475000" cy="36036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更新方法の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5" name="正方形/長方形 68"/>
          <p:cNvSpPr/>
          <p:nvPr/>
        </p:nvSpPr>
        <p:spPr>
          <a:xfrm>
            <a:off x="324000" y="907920"/>
            <a:ext cx="80596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Ｐゴシック"/>
              </a:rPr>
              <a:t>データの内容に応じて、更新方法や更新タイミングを決める。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46" name=""/>
          <p:cNvGraphicFramePr/>
          <p:nvPr/>
        </p:nvGraphicFramePr>
        <p:xfrm>
          <a:off x="324000" y="1989000"/>
          <a:ext cx="8569080" cy="1140120"/>
        </p:xfrm>
        <a:graphic>
          <a:graphicData uri="http://schemas.openxmlformats.org/drawingml/2006/table">
            <a:tbl>
              <a:tblPr/>
              <a:tblGrid>
                <a:gridCol w="5373360"/>
                <a:gridCol w="3195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更新方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データの例（推奨データセット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オープンデータの内容を、新しいものに置き換え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1.AED</a:t>
                      </a:r>
                      <a:r>
                        <a:rPr b="0" lang="zh-TW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設置箇所一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新しくオープンデータを追加してい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</a:tbl>
          </a:graphicData>
        </a:graphic>
      </p:graphicFrame>
      <p:sp>
        <p:nvSpPr>
          <p:cNvPr id="947" name="正方形/長方形 70"/>
          <p:cNvSpPr/>
          <p:nvPr/>
        </p:nvSpPr>
        <p:spPr>
          <a:xfrm>
            <a:off x="284040" y="3789360"/>
            <a:ext cx="2475000" cy="360360"/>
          </a:xfrm>
          <a:prstGeom prst="rect">
            <a:avLst/>
          </a:prstGeom>
          <a:solidFill>
            <a:srgbClr val="127ca4"/>
          </a:solidFill>
          <a:ln w="12600">
            <a:solidFill>
              <a:srgbClr val="127ca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更新タイミングの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948" name=""/>
          <p:cNvGraphicFramePr/>
          <p:nvPr/>
        </p:nvGraphicFramePr>
        <p:xfrm>
          <a:off x="324000" y="4292640"/>
          <a:ext cx="8569080" cy="1654200"/>
        </p:xfrm>
        <a:graphic>
          <a:graphicData uri="http://schemas.openxmlformats.org/drawingml/2006/table">
            <a:tbl>
              <a:tblPr/>
              <a:tblGrid>
                <a:gridCol w="5373360"/>
                <a:gridCol w="3195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更新タイミン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データの例（推奨データセット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27ca4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随時変更が発生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⇒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団体内でオープンデータを更新する周期を決め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06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イベント一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7e0"/>
                    </a:solidFill>
                  </a:tcPr>
                </a:tc>
              </a:tr>
              <a:tr h="64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元のデータの更新に合わせて、定期的にオープンデータの変更や追加を行う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11.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地域・年齢別人口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cf0"/>
                    </a:solidFill>
                  </a:tcPr>
                </a:tc>
              </a:tr>
            </a:tbl>
          </a:graphicData>
        </a:graphic>
      </p:graphicFrame>
      <p:sp>
        <p:nvSpPr>
          <p:cNvPr id="949" name="テキスト ボックス 6"/>
          <p:cNvSpPr/>
          <p:nvPr/>
        </p:nvSpPr>
        <p:spPr>
          <a:xfrm>
            <a:off x="669960" y="6159600"/>
            <a:ext cx="809604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出展：オープンデータ化支援研修（総務省）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08A5-B9F8-4E6F-BA73-3D62B0E2E42C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情報（データ）のあり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2" name="Rectangle 186"/>
          <p:cNvSpPr/>
          <p:nvPr/>
        </p:nvSpPr>
        <p:spPr>
          <a:xfrm>
            <a:off x="684360" y="2060640"/>
            <a:ext cx="8064360" cy="3125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情報公開条例第２２条（情報公開の総合的な推進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情報公開条例第２７条（情報の提供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b05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流山市自治基本条例第８条（情報共有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3" name="Rectangle 186"/>
          <p:cNvSpPr/>
          <p:nvPr/>
        </p:nvSpPr>
        <p:spPr>
          <a:xfrm>
            <a:off x="684360" y="1197000"/>
            <a:ext cx="8064360" cy="86364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情報公開・情報提供→情報共有・情報活用へ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C2E54-6457-4ABC-A474-15E85B83C22B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の循環図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graphicFrame>
        <p:nvGraphicFramePr>
          <p:cNvPr id="956" name=""/>
          <p:cNvGraphicFramePr/>
          <p:nvPr/>
        </p:nvGraphicFramePr>
        <p:xfrm>
          <a:off x="468360" y="1098720"/>
          <a:ext cx="8207280" cy="4851360"/>
        </p:xfrm>
        <a:graphic>
          <a:graphicData uri="http://schemas.openxmlformats.org/drawingml/2006/table">
            <a:tbl>
              <a:tblPr/>
              <a:tblGrid>
                <a:gridCol w="4103640"/>
                <a:gridCol w="4103640"/>
              </a:tblGrid>
              <a:tr h="2263680"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協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社会課題を解決するためのサービ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を開発し、実装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1493"/>
                    </a:solidFill>
                  </a:tcPr>
                </a:tc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環境整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活用を前提とした標準化された形式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　内容のデータを生成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a1493"/>
                    </a:solidFill>
                  </a:tcPr>
                </a:tc>
              </a:tr>
              <a:tr h="2587680"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参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社会課題探索の中で、データの価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を発見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1f7"/>
                    </a:solidFill>
                  </a:tcPr>
                </a:tc>
                <a:tc>
                  <a:txBody>
                    <a:bodyPr lIns="0" rIns="0" tIns="360" bIns="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透明性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データを権利処理した形で一元的に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　提供す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c1f7"/>
                    </a:solidFill>
                  </a:tcPr>
                </a:tc>
              </a:tr>
            </a:tbl>
          </a:graphicData>
        </a:graphic>
      </p:graphicFrame>
      <p:sp>
        <p:nvSpPr>
          <p:cNvPr id="957" name="左カーブ矢印 11"/>
          <p:cNvSpPr/>
          <p:nvPr/>
        </p:nvSpPr>
        <p:spPr>
          <a:xfrm rot="5400000">
            <a:off x="4244040" y="3234240"/>
            <a:ext cx="493560" cy="882720"/>
          </a:xfrm>
          <a:custGeom>
            <a:avLst/>
            <a:gdLst>
              <a:gd name="textAreaLeft" fmla="*/ 65880 w 493560"/>
              <a:gd name="textAreaRight" fmla="*/ 427680 w 493560"/>
              <a:gd name="textAreaTop" fmla="*/ 174240 h 882720"/>
              <a:gd name="textAreaBottom" fmla="*/ 64656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35" stAng="-5400000" swAng="5400000"/>
                <a:lnTo>
                  <a:pt x="21600" y="11556"/>
                </a:lnTo>
                <a:arcTo wR="21600" hR="8535" stAng="0" swAng="3410179"/>
                <a:lnTo>
                  <a:pt x="5400" y="21329"/>
                </a:lnTo>
                <a:lnTo>
                  <a:pt x="0" y="18580"/>
                </a:lnTo>
                <a:lnTo>
                  <a:pt x="5400" y="15288"/>
                </a:lnTo>
                <a:lnTo>
                  <a:pt x="5400" y="16798"/>
                </a:lnTo>
                <a:arcTo wR="21600" hR="8535" stAng="3410179" swAng="-3166330"/>
                <a:lnTo>
                  <a:pt x="21259" y="10045"/>
                </a:lnTo>
                <a:arcTo wR="21600" hR="8535" stAng="-243850" swAng="-5156150"/>
                <a:close/>
              </a:path>
              <a:path fill="darkenLess" w="21600" h="21600">
                <a:moveTo>
                  <a:pt x="0" y="0"/>
                </a:moveTo>
                <a:arcTo wR="21600" hR="8535" stAng="-5400000" swAng="5400000"/>
                <a:lnTo>
                  <a:pt x="21600" y="11556"/>
                </a:lnTo>
                <a:arcTo wR="21600" hR="8535" stAng="0" swAng="-243850"/>
                <a:lnTo>
                  <a:pt x="21259" y="10045"/>
                </a:lnTo>
                <a:arcTo wR="21600" hR="8535" stAng="-243850" swAng="-5156150"/>
                <a:close/>
              </a:path>
            </a:pathLst>
          </a:custGeom>
          <a:solidFill>
            <a:srgbClr val="ff0000"/>
          </a:solidFill>
          <a:ln w="12600">
            <a:solidFill>
              <a:srgbClr val="a81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8" name="左カーブ矢印 13"/>
          <p:cNvSpPr/>
          <p:nvPr/>
        </p:nvSpPr>
        <p:spPr>
          <a:xfrm rot="16200000">
            <a:off x="4300200" y="2571120"/>
            <a:ext cx="543240" cy="1044720"/>
          </a:xfrm>
          <a:custGeom>
            <a:avLst/>
            <a:gdLst>
              <a:gd name="textAreaLeft" fmla="*/ 72720 w 543240"/>
              <a:gd name="textAreaRight" fmla="*/ 470520 w 543240"/>
              <a:gd name="textAreaTop" fmla="*/ 210240 h 1044720"/>
              <a:gd name="textAreaBottom" fmla="*/ 766800 h 10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95" stAng="-5400000" swAng="5400000"/>
                <a:lnTo>
                  <a:pt x="21600" y="11502"/>
                </a:lnTo>
                <a:arcTo wR="21600" hR="8695" stAng="0" swAng="3439399"/>
                <a:lnTo>
                  <a:pt x="5400" y="21324"/>
                </a:lnTo>
                <a:lnTo>
                  <a:pt x="0" y="18794"/>
                </a:lnTo>
                <a:lnTo>
                  <a:pt x="5400" y="15711"/>
                </a:lnTo>
                <a:lnTo>
                  <a:pt x="5400" y="17114"/>
                </a:lnTo>
                <a:arcTo wR="21600" hR="8695" stAng="3439399" swAng="-3213383"/>
                <a:lnTo>
                  <a:pt x="21317" y="10099"/>
                </a:lnTo>
                <a:arcTo wR="21600" hR="8695" stAng="-226016" swAng="-5173984"/>
                <a:close/>
              </a:path>
              <a:path fill="darkenLess" w="21600" h="21600">
                <a:moveTo>
                  <a:pt x="0" y="0"/>
                </a:moveTo>
                <a:arcTo wR="21600" hR="8695" stAng="-5400000" swAng="5400000"/>
                <a:lnTo>
                  <a:pt x="21600" y="11502"/>
                </a:lnTo>
                <a:arcTo wR="21600" hR="8695" stAng="0" swAng="-226016"/>
                <a:lnTo>
                  <a:pt x="21317" y="10099"/>
                </a:lnTo>
                <a:arcTo wR="21600" hR="8695" stAng="-226016" swAng="-5173984"/>
                <a:close/>
              </a:path>
            </a:pathLst>
          </a:custGeom>
          <a:solidFill>
            <a:srgbClr val="ff0000"/>
          </a:solidFill>
          <a:ln w="12600">
            <a:solidFill>
              <a:srgbClr val="a81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3722B-CA73-4BFA-81E2-0DD36D04D991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0" name="サブタイトル 2"/>
          <p:cNvSpPr/>
          <p:nvPr/>
        </p:nvSpPr>
        <p:spPr>
          <a:xfrm>
            <a:off x="468360" y="3875040"/>
            <a:ext cx="8280360" cy="895320"/>
          </a:xfrm>
          <a:prstGeom prst="rect">
            <a:avLst/>
          </a:prstGeom>
          <a:solidFill>
            <a:srgbClr val="cb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平成２４年１０月１日ホームページリニューアルが契機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市議会と共にトライアル（試行）を開始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1" name="タイトル 2"/>
          <p:cNvSpPr/>
          <p:nvPr/>
        </p:nvSpPr>
        <p:spPr>
          <a:xfrm>
            <a:off x="46836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始めたきっかけ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2" name="サブタイトル 2"/>
          <p:cNvSpPr/>
          <p:nvPr/>
        </p:nvSpPr>
        <p:spPr>
          <a:xfrm>
            <a:off x="468360" y="4738680"/>
            <a:ext cx="8280360" cy="1695600"/>
          </a:xfrm>
          <a:prstGeom prst="rect">
            <a:avLst/>
          </a:prstGeom>
          <a:solidFill>
            <a:srgbClr val="e9f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ホームページ等で既に掲載しているデータを対象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公共施設所在地、文化財、投票所所在地、</a:t>
            </a: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AED</a:t>
            </a: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設置場所、避難場所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駐輪場（自転車駐車場）、ごみの収集曜日、ごみの分別・処分方法、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年齢別・男女別人口、町丁字別人口　　等　　２５種類のデータ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3" name="図 1" descr=""/>
          <p:cNvPicPr/>
          <p:nvPr/>
        </p:nvPicPr>
        <p:blipFill>
          <a:blip r:embed="rId1"/>
          <a:stretch/>
        </p:blipFill>
        <p:spPr>
          <a:xfrm>
            <a:off x="179280" y="1111320"/>
            <a:ext cx="8820360" cy="25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0BC0-6636-4E80-ACCD-B2EE8DA9974B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28560" y="836640"/>
            <a:ext cx="788688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ＭＳ Ｐゴシック"/>
              </a:rPr>
              <a:t>原則情報は公開し活用してもらう！</a:t>
            </a:r>
            <a:endParaRPr b="0" lang="en-US" sz="3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645840" y="1832040"/>
            <a:ext cx="7886520" cy="344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流山市個人情報保護条例第２条１項（定義）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　→特定の個人が識別され、又は識別され得るもの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 u="sng">
                <a:solidFill>
                  <a:srgbClr val="ff0000"/>
                </a:solidFill>
                <a:uFillTx/>
                <a:latin typeface="ＭＳ Ｐゴシック"/>
              </a:rPr>
              <a:t>つまり特定の個人が識別されなければ原則情報を公開する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ff0000"/>
                </a:solidFill>
                <a:latin typeface="ＭＳ Ｐゴシック"/>
              </a:rPr>
              <a:t>公開した情報をどんどん活用してもらう！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2" name="下矢印 3"/>
          <p:cNvSpPr/>
          <p:nvPr/>
        </p:nvSpPr>
        <p:spPr>
          <a:xfrm>
            <a:off x="3755880" y="3652920"/>
            <a:ext cx="960480" cy="6397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01538"/>
          </a:solidFill>
          <a:ln w="12600">
            <a:solidFill>
              <a:srgbClr val="a8163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AE61-119F-47B9-B8A4-ADC0B01E6C64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645840" y="1616040"/>
            <a:ext cx="7886520" cy="109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BIZ UDPゴシック"/>
                <a:ea typeface="BIZ UDPゴシック"/>
              </a:rPr>
              <a:t>ご清聴ありがとうございました</a:t>
            </a:r>
            <a:endParaRPr b="0" lang="en-US" sz="4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5" name="コンテンツ プレースホルダー 2"/>
          <p:cNvSpPr/>
          <p:nvPr/>
        </p:nvSpPr>
        <p:spPr>
          <a:xfrm>
            <a:off x="3051000" y="3141720"/>
            <a:ext cx="5985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流山市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総合政策部　情報政策・改革改善課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担当：佐藤　慎一郎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電話番号：</a:t>
            </a: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04-7150-6078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ail</a:t>
            </a:r>
            <a:r>
              <a:rPr b="0" lang="ja-JP" sz="22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keieikaikaku@city.nagareyama.lg.jp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16CF-2A24-4F27-AA65-02B92C8E642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5" name="サブタイトル 2"/>
          <p:cNvSpPr/>
          <p:nvPr/>
        </p:nvSpPr>
        <p:spPr>
          <a:xfrm>
            <a:off x="468360" y="4357800"/>
            <a:ext cx="8280360" cy="42516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平成２５年度及び平成２６年度にアプリコンテストを開催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6" name="タイトル 2"/>
          <p:cNvSpPr/>
          <p:nvPr/>
        </p:nvSpPr>
        <p:spPr>
          <a:xfrm>
            <a:off x="46836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アプリコンテストの実施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47" name="サブタイトル 2"/>
          <p:cNvSpPr/>
          <p:nvPr/>
        </p:nvSpPr>
        <p:spPr>
          <a:xfrm>
            <a:off x="468360" y="4753080"/>
            <a:ext cx="8280360" cy="19890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流山のオープンデータを利用した、楽しい・便利なアプリを募集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アイデア（市役所）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アイデア（市議会）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　・プログラミング部門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ホームページ公開中のアプリ　　「ゴミ分別・処分方法検索アプリ」等　５件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48" name="図 1" descr=""/>
          <p:cNvPicPr/>
          <p:nvPr/>
        </p:nvPicPr>
        <p:blipFill>
          <a:blip r:embed="rId1"/>
          <a:stretch/>
        </p:blipFill>
        <p:spPr>
          <a:xfrm>
            <a:off x="1104840" y="858960"/>
            <a:ext cx="69343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61936-1491-41B3-BF51-938DC17C6FC4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を活用したサイ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1" name="正方形/長方形 17"/>
          <p:cNvSpPr/>
          <p:nvPr/>
        </p:nvSpPr>
        <p:spPr>
          <a:xfrm>
            <a:off x="971640" y="692280"/>
            <a:ext cx="72723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防災科学技術研究所との共同研究の一環として構築した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地域での各種活動を支援する地域ポータルサイト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2" name="正方形/長方形 17"/>
          <p:cNvSpPr/>
          <p:nvPr/>
        </p:nvSpPr>
        <p:spPr>
          <a:xfrm>
            <a:off x="1419120" y="6303960"/>
            <a:ext cx="632160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http://ecom-plat.jp/nagareyama/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3" name="図 1" descr=""/>
          <p:cNvPicPr/>
          <p:nvPr/>
        </p:nvPicPr>
        <p:blipFill>
          <a:blip r:embed="rId1"/>
          <a:stretch/>
        </p:blipFill>
        <p:spPr>
          <a:xfrm>
            <a:off x="1419120" y="1346040"/>
            <a:ext cx="63057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F146-946B-418B-AE39-D5A59BB59059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流山市オープンデータカタログサイト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6" name="正方形/長方形 17"/>
          <p:cNvSpPr/>
          <p:nvPr/>
        </p:nvSpPr>
        <p:spPr>
          <a:xfrm>
            <a:off x="971640" y="692280"/>
            <a:ext cx="7272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オープンデータ掲載件数　３５０件（令和元年１１月１日現在）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7" name="正方形/長方形 17"/>
          <p:cNvSpPr/>
          <p:nvPr/>
        </p:nvSpPr>
        <p:spPr>
          <a:xfrm>
            <a:off x="1428840" y="6453360"/>
            <a:ext cx="6286320" cy="36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ＭＳ Ｐゴシック"/>
                <a:ea typeface="Meiryo UI"/>
              </a:rPr>
              <a:t>https://www.city.nagareyama.chiba.jp/opendata/index.html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858" name="図 1" descr=""/>
          <p:cNvPicPr/>
          <p:nvPr/>
        </p:nvPicPr>
        <p:blipFill>
          <a:blip r:embed="rId1"/>
          <a:stretch/>
        </p:blipFill>
        <p:spPr>
          <a:xfrm>
            <a:off x="1428840" y="1125360"/>
            <a:ext cx="6286320" cy="536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58E4B-E4A3-4736-9F40-EFED550709F2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オープンデータに向けた課題と目標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1" name="Rectangle 186"/>
          <p:cNvSpPr/>
          <p:nvPr/>
        </p:nvSpPr>
        <p:spPr>
          <a:xfrm>
            <a:off x="684360" y="1455840"/>
            <a:ext cx="8064360" cy="1973160"/>
          </a:xfrm>
          <a:prstGeom prst="rect">
            <a:avLst/>
          </a:prstGeom>
          <a:solidFill>
            <a:srgbClr val="ffe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なデータを対象と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に作成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9d074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どのように利用状況を把握する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2" name="Rectangle 186"/>
          <p:cNvSpPr/>
          <p:nvPr/>
        </p:nvSpPr>
        <p:spPr>
          <a:xfrm>
            <a:off x="826920" y="1197000"/>
            <a:ext cx="1071720" cy="57636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課題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3" name="Rectangle 186"/>
          <p:cNvSpPr/>
          <p:nvPr/>
        </p:nvSpPr>
        <p:spPr>
          <a:xfrm>
            <a:off x="684360" y="4121280"/>
            <a:ext cx="8064360" cy="1539720"/>
          </a:xfrm>
          <a:prstGeom prst="rect">
            <a:avLst/>
          </a:prstGeom>
          <a:solidFill>
            <a:srgbClr val="e9f7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127ca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行政だけでなく住民、企業、ＮＰＯ等に使ってもらう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127ca4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オープンデータを充実させる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4" name="Rectangle 186"/>
          <p:cNvSpPr/>
          <p:nvPr/>
        </p:nvSpPr>
        <p:spPr>
          <a:xfrm>
            <a:off x="826920" y="3860640"/>
            <a:ext cx="1071720" cy="5763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目標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8C10-9ED5-473C-88E8-B94CA84CA8BE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ガイドラインの作成と職員研修の実施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7" name="Rectangle 186"/>
          <p:cNvSpPr/>
          <p:nvPr/>
        </p:nvSpPr>
        <p:spPr>
          <a:xfrm>
            <a:off x="684360" y="1773360"/>
            <a:ext cx="8064360" cy="1501560"/>
          </a:xfrm>
          <a:prstGeom prst="rect">
            <a:avLst/>
          </a:prstGeom>
          <a:solidFill>
            <a:srgbClr val="e8e0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必要性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目的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5f196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公開の形式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8" name="Rectangle 186"/>
          <p:cNvSpPr/>
          <p:nvPr/>
        </p:nvSpPr>
        <p:spPr>
          <a:xfrm>
            <a:off x="684360" y="1197000"/>
            <a:ext cx="8064360" cy="5763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オープンデータ推進に関するガイドライン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9" name="Rectangle 186"/>
          <p:cNvSpPr/>
          <p:nvPr/>
        </p:nvSpPr>
        <p:spPr>
          <a:xfrm>
            <a:off x="684360" y="4194000"/>
            <a:ext cx="8064360" cy="2082960"/>
          </a:xfrm>
          <a:prstGeom prst="rect">
            <a:avLst/>
          </a:prstGeom>
          <a:solidFill>
            <a:srgbClr val="c1f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管理職向けにオープンデータの概要、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一般職員向けにオープンデータの公開手順（外部講師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利活用の重要性（市長講話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0066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データ利活用講習（総務省講師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0" name="Rectangle 186"/>
          <p:cNvSpPr/>
          <p:nvPr/>
        </p:nvSpPr>
        <p:spPr>
          <a:xfrm>
            <a:off x="684360" y="3645000"/>
            <a:ext cx="8064360" cy="576000"/>
          </a:xfrm>
          <a:prstGeom prst="rect">
            <a:avLst/>
          </a:prstGeom>
          <a:solidFill>
            <a:srgbClr val="66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職員研修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48D2-AC13-4B56-A9DD-4AEF333A918E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データの掘り起こし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3" name="テキスト ボックス 6"/>
          <p:cNvSpPr/>
          <p:nvPr/>
        </p:nvSpPr>
        <p:spPr>
          <a:xfrm>
            <a:off x="250920" y="1268280"/>
            <a:ext cx="8713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ＭＳ Ｐゴシック"/>
              </a:rPr>
              <a:t>各所管課で保有しているデータを掘り起こす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4" name="正方形/長方形 20"/>
          <p:cNvSpPr/>
          <p:nvPr/>
        </p:nvSpPr>
        <p:spPr>
          <a:xfrm>
            <a:off x="324000" y="2368440"/>
            <a:ext cx="447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データの掘り起こしイメージ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108000" y="2728800"/>
          <a:ext cx="8856720" cy="3224160"/>
        </p:xfrm>
        <a:graphic>
          <a:graphicData uri="http://schemas.openxmlformats.org/drawingml/2006/table">
            <a:tbl>
              <a:tblPr/>
              <a:tblGrid>
                <a:gridCol w="1655640"/>
                <a:gridCol w="1728720"/>
                <a:gridCol w="1008360"/>
                <a:gridCol w="1079280"/>
                <a:gridCol w="839880"/>
                <a:gridCol w="888840"/>
                <a:gridCol w="792360"/>
                <a:gridCol w="863640"/>
              </a:tblGrid>
              <a:tr h="8352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情報名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管理担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部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データの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種類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デー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形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分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更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頻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他者権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ニー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600" spc="-1" strike="noStrike">
                          <a:solidFill>
                            <a:srgbClr val="ffffff"/>
                          </a:solidFill>
                          <a:latin typeface="メイリオ"/>
                          <a:ea typeface="メイリオ"/>
                        </a:rPr>
                        <a:t>分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88fe2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○○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予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財政調整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予算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CS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△△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スポッ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商工振興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施設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PD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あ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47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イベント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秘書広報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報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html,jp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10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あり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●●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設置場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防災危機管理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施設情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紙（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A4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2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毎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efa"/>
                    </a:solidFill>
                  </a:tcPr>
                </a:tc>
              </a:tr>
              <a:tr h="477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▲▲</a:t>
                      </a: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統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市民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統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x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4M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71400"/>
                          <a:tab algn="l" pos="1343160"/>
                          <a:tab algn="l" pos="2014560"/>
                          <a:tab algn="l" pos="2685960"/>
                          <a:tab algn="l" pos="3357720"/>
                          <a:tab algn="l" pos="4029120"/>
                          <a:tab algn="l" pos="4700520"/>
                          <a:tab algn="l" pos="5372280"/>
                          <a:tab algn="l" pos="6043680"/>
                          <a:tab algn="l" pos="6715080"/>
                          <a:tab algn="l" pos="7386480"/>
                          <a:tab algn="l" pos="8058240"/>
                          <a:tab algn="l" pos="8729640"/>
                          <a:tab algn="l" pos="9401040"/>
                          <a:tab algn="l" pos="10072800"/>
                          <a:tab algn="l" pos="107442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四半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メイリオ"/>
                          <a:ea typeface="メイリオ"/>
                        </a:rPr>
                        <a:t>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Lucida Sans Unicode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1db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スライド番号プレースホルダー 3"/>
          <p:cNvSpPr/>
          <p:nvPr/>
        </p:nvSpPr>
        <p:spPr>
          <a:xfrm>
            <a:off x="8477280" y="6492960"/>
            <a:ext cx="66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7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AD6F-072B-4A70-BDDC-E57128981306}" type="slidenum">
              <a:rPr b="1" lang="ja-JP" sz="18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68000" y="189000"/>
            <a:ext cx="795636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2060"/>
                </a:solidFill>
                <a:latin typeface="メイリオ"/>
              </a:rPr>
              <a:t>データ掘り起こしの着目点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8" name="Rectangle 186"/>
          <p:cNvSpPr/>
          <p:nvPr/>
        </p:nvSpPr>
        <p:spPr>
          <a:xfrm>
            <a:off x="684360" y="836640"/>
            <a:ext cx="8064360" cy="4492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国や県へ報告したデータ　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エクセルを利用している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決算審査時に作成した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情報システムから抽出したデータ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調査やアンケートの結果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届出件数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グラフ化した元のデータ　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変動する数字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262080" indent="-262080">
              <a:lnSpc>
                <a:spcPct val="100000"/>
              </a:lnSpc>
              <a:spcBef>
                <a:spcPts val="601"/>
              </a:spcBef>
              <a:buClr>
                <a:srgbClr val="e68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参加者人数　　　　　　　　　　　　　　等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9" name="Rectangle 186"/>
          <p:cNvSpPr/>
          <p:nvPr/>
        </p:nvSpPr>
        <p:spPr>
          <a:xfrm>
            <a:off x="684360" y="5516640"/>
            <a:ext cx="8064360" cy="576360"/>
          </a:xfrm>
          <a:prstGeom prst="rect">
            <a:avLst/>
          </a:prstGeom>
          <a:solidFill>
            <a:srgbClr val="ffe8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ＭＳ Ｐゴシック"/>
              </a:rPr>
              <a:t>庁外からのオープンデータダウンロード実績集計結果も活用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08T02:47:22Z</dcterms:created>
  <dc:creator/>
  <dc:description/>
  <cp:keywords/>
  <dc:language>en-US</dc:language>
  <cp:lastModifiedBy/>
  <dcterms:modified xsi:type="dcterms:W3CDTF">2020-01-08T02:47:38Z</dcterms:modified>
  <cp:revision>1</cp:revision>
  <dc:subject/>
  <dc:title/>
</cp:coreProperties>
</file>